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339-60D4-4680-8B5F-9A8E7C5F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021-39BF-4147-A428-EEB358A9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BAD-2D7A-4896-B519-21D89F27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A4B-C094-40AB-AB49-3C588EAE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265E-C43E-4CFB-B92A-1A05B61C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FD09-33B5-4F0E-9C44-F9265C48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56F6-4BB1-4EAE-B22E-757C91FE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92EE-A0C5-4D10-BA61-BFECEFB0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70DE-715B-404A-A13B-5E0075E6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E266-D427-4688-A721-FFFD9BF5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D1F4-3865-4706-83D4-A077EF5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601-7D7C-4B46-ABE0-B67A0139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6DD3-FDA5-4B59-9289-6491A772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E69E-13E2-48EC-8FF1-6F603586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CD8A-6A0E-4229-B1F2-BA90F7CA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CC37-88AF-43D9-B1B3-233C23F6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C447-33E8-4EDE-B908-85925D0C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154-A632-467B-AE5A-0AE46086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B50-F2FD-4D68-9AB5-2ED2DB25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81E-4201-42C9-A06D-9347B6B2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740-8DAF-4E39-8D4A-07454501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E1D-89C2-4381-9B00-C4AEB6E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7DE-2CEB-4341-880F-D5689BED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CA7-F6AA-4F58-968B-89BEDC2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A8B7-06B3-4755-A750-148A2C0279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730A-D37A-4DD4-BC05-2781EFB26F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Script"/>
              </a:rPr>
              <a:t>ALL ABOUT SPI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cript"/>
              </a:rPr>
              <a:t>BY: ISABELLE TAY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Segoe Script"/>
              </a:rPr>
              <a:t>GARDEN SPIDERS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make an orb web (like the one shown her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den spiders  are harmless to human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13280" y="4114440"/>
            <a:ext cx="36972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OL AND CREEPY VOCABUL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lting-”When a spider sheds it’s sk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gline-Long silk threads that drag behind the spi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828800" cy="12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07000" y="1905120"/>
            <a:ext cx="3537000" cy="424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168408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00600" y="0"/>
            <a:ext cx="0" cy="487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TWO QUOTES  FROM</a:t>
            </a:r>
            <a:r>
              <a:rPr b="1" lang="en-US" sz="4400" spc="-1" strike="noStrike">
                <a:solidFill>
                  <a:srgbClr val="eaeaea"/>
                </a:solidFill>
                <a:latin typeface="Edwardian Script ITC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Curlz MT"/>
              </a:rPr>
              <a:t>CHARLOTT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y legs are hairy for a good reason, …furthermore, each one of my legs  has seven sections-the coxa, the trochanter, the femur, the patella, the tiba, the metatarus and the tarsus.” pg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a sedentary spider.” pg 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REEPY CRAWLYS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Bradley Hand ITC"/>
              </a:rPr>
              <a:t>COOL SNA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81160" y="1981080"/>
            <a:ext cx="1673280" cy="198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7680" y="2146320"/>
            <a:ext cx="1323720" cy="165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081160" y="4270320"/>
            <a:ext cx="1674720" cy="166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753160" y="3048120"/>
            <a:ext cx="3390840" cy="290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581280" y="19810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685800"/>
            <a:ext cx="142884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733920" y="5029200"/>
            <a:ext cx="1809720" cy="1023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7315200" y="685800"/>
            <a:ext cx="1371600" cy="898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334120" y="411480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5638680" y="914400"/>
            <a:ext cx="8892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Segoe Print"/>
              </a:rPr>
              <a:t>My We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22640" y="1981080"/>
          <a:ext cx="5232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1981080"/>
                    <a:ext cx="5232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pocanticohills.org/spiders/spiders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0:40:54Z</dcterms:created>
  <dc:creator>arisefamily</dc:creator>
  <dc:description/>
  <dc:language>en-US</dc:language>
  <cp:lastModifiedBy>smiller</cp:lastModifiedBy>
  <dcterms:modified xsi:type="dcterms:W3CDTF">2009-10-12T20:37:50Z</dcterms:modified>
  <cp:revision>10</cp:revision>
  <dc:subject/>
  <dc:title>ALL ABOUT SPIDER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13160415</vt:r8>
  </property>
  <property fmtid="{D5CDD505-2E9C-101B-9397-08002B2CF9AE}" pid="3" name="_AuthorEmail">
    <vt:lpwstr>arisefamily@comcast.net</vt:lpwstr>
  </property>
  <property fmtid="{D5CDD505-2E9C-101B-9397-08002B2CF9AE}" pid="4" name="_AuthorEmailDisplayName">
    <vt:lpwstr>Elizabeth Taylor</vt:lpwstr>
  </property>
  <property fmtid="{D5CDD505-2E9C-101B-9397-08002B2CF9AE}" pid="5" name="_EmailSubject">
    <vt:lpwstr>Isabelle's power point</vt:lpwstr>
  </property>
  <property fmtid="{D5CDD505-2E9C-101B-9397-08002B2CF9AE}" pid="6" name="_ReviewingToolsShownOnce">
    <vt:lpwstr/>
  </property>
</Properties>
</file>