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3760-BCC8-4D6D-B1AC-BC687812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4E0-76D3-495D-8494-A9392A47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A72C-88EB-4CB4-8C11-7BD674AC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EDA-5018-4460-B83E-2FB21D77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9B15-5F49-47A2-A763-E94A14E6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9D92-FC9B-4939-8C7C-ED802524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6DBB-4802-4490-820E-08DCF395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9B5A-BB1A-4A5D-8CAE-C58723B8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76D0-BAFF-4C07-8F95-402CECC3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7EA2-87A0-45CA-991A-31CE86F4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0A8B-52A0-4E4E-B938-A5443FF1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002-329C-4A0B-963B-8F7A1F5B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1DA7-184C-4EA5-AFE7-0A9C01C0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5273-42AA-4902-8BB2-7BAF7546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FB02-5844-4A20-9A0F-94AFEF69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C3E2-7455-41E3-8855-7A90AB16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4004-764A-4BD9-AB43-B74AB136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4DD-DE85-4F35-AD2B-330D2B4F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60EA-A107-4688-9B46-A6CD2B2B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C56-B781-4E0B-B2DE-A406E15F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F05-05A9-4147-9B30-FD116D5D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936-8484-405F-843B-9DC1825E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D979-7AD7-4BBB-ADAB-7EBB279D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539-E688-4909-BE75-DFEBD6D1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82E1-639C-4441-8A39-D7003DC0C71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9ED5-3162-4A03-A03A-5431A09E4E6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canticohills.org/spiders/spiders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Segoe Script"/>
              </a:rPr>
              <a:t>ALL ABOUT SPI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cript"/>
              </a:rPr>
              <a:t>BY: ISABELLE TAY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Segoe Script"/>
              </a:rPr>
              <a:t>GARDEN SPIDERS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rden spiders make an orb web (like the one shown here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rden spiders  are harmless to human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13280" y="4114440"/>
            <a:ext cx="369720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OL AND CREEPY VOCABULA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lting-”When a spider sheds it’s skin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gline-Long silk threads that drag behind the spi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315200" y="685800"/>
            <a:ext cx="1828800" cy="124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607000" y="1905120"/>
            <a:ext cx="3537000" cy="4241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962520" y="4876920"/>
            <a:ext cx="1684080" cy="1981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800600" y="0"/>
            <a:ext cx="0" cy="4876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urlz MT"/>
              </a:rPr>
              <a:t>TWO QUOTES  FROM</a:t>
            </a:r>
            <a:r>
              <a:rPr b="1" lang="en-US" sz="4400" spc="-1" strike="noStrike">
                <a:solidFill>
                  <a:srgbClr val="eaeaea"/>
                </a:solidFill>
                <a:latin typeface="Edwardian Script ITC"/>
              </a:rPr>
              <a:t>  </a:t>
            </a:r>
            <a:r>
              <a:rPr b="1" lang="en-US" sz="4400" spc="-1" strike="noStrike">
                <a:solidFill>
                  <a:srgbClr val="eaeaea"/>
                </a:solidFill>
                <a:latin typeface="Curlz MT"/>
              </a:rPr>
              <a:t>CHARLOTTE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legs are hairy for a good reason, …furthermore, each one of my legs  has seven sections-the coxa, the trochanter, the femur, the patella, the tiba, the metatarus and the tarsus.” pg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’m a sedentary spider.” pg 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radley Hand ITC"/>
              </a:rPr>
              <a:t>CREEPY CRAWLYS AND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Bradley Hand ITC"/>
              </a:rPr>
              <a:t>COOL SNAP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81160" y="1981080"/>
            <a:ext cx="1673280" cy="1987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97680" y="2146320"/>
            <a:ext cx="1323720" cy="1655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081160" y="4270320"/>
            <a:ext cx="1674720" cy="1660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753160" y="3048120"/>
            <a:ext cx="3390840" cy="2901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581280" y="1981080"/>
            <a:ext cx="2362320" cy="1752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0" y="685800"/>
            <a:ext cx="1428840" cy="158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3733920" y="5029200"/>
            <a:ext cx="1809720" cy="1023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7315200" y="685800"/>
            <a:ext cx="1371600" cy="898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5334120" y="411480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5638680" y="914400"/>
            <a:ext cx="8892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Segoe Print"/>
              </a:rPr>
              <a:t>My Web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22640" y="1981080"/>
          <a:ext cx="5232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2640" y="1981080"/>
                    <a:ext cx="5232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EN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NK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pocanticohills.org/spiders/spiders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20:40:54Z</dcterms:created>
  <dc:creator>arisefamily</dc:creator>
  <dc:description/>
  <dc:language>en-US</dc:language>
  <cp:lastModifiedBy>smiller</cp:lastModifiedBy>
  <dcterms:modified xsi:type="dcterms:W3CDTF">2009-10-12T20:37:50Z</dcterms:modified>
  <cp:revision>10</cp:revision>
  <dc:subject/>
  <dc:title>ALL ABOUT SPIDERS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13160415</vt:r8>
  </property>
  <property fmtid="{D5CDD505-2E9C-101B-9397-08002B2CF9AE}" pid="3" name="_AuthorEmail">
    <vt:lpwstr>arisefamily@comcast.net</vt:lpwstr>
  </property>
  <property fmtid="{D5CDD505-2E9C-101B-9397-08002B2CF9AE}" pid="4" name="_AuthorEmailDisplayName">
    <vt:lpwstr>Elizabeth Taylor</vt:lpwstr>
  </property>
  <property fmtid="{D5CDD505-2E9C-101B-9397-08002B2CF9AE}" pid="5" name="_EmailSubject">
    <vt:lpwstr>Isabelle's power point</vt:lpwstr>
  </property>
  <property fmtid="{D5CDD505-2E9C-101B-9397-08002B2CF9AE}" pid="6" name="_ReviewingToolsShownOnce">
    <vt:lpwstr/>
  </property>
</Properties>
</file>