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13.wmf" ContentType="image/x-wmf"/>
  <Override PartName="/ppt/media/image9.png" ContentType="image/png"/>
  <Override PartName="/ppt/media/image17.png" ContentType="image/png"/>
  <Override PartName="/ppt/media/image16.wmf" ContentType="image/x-wmf"/>
  <Override PartName="/ppt/media/image14.wmf" ContentType="image/x-wmf"/>
  <Override PartName="/ppt/media/image5.jpeg" ContentType="image/jpeg"/>
  <Override PartName="/ppt/media/image1.png" ContentType="image/png"/>
  <Override PartName="/ppt/media/image15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11.jpeg" ContentType="image/jpeg"/>
  <Override PartName="/ppt/media/image12.wmf" ContentType="image/x-wmf"/>
  <Override PartName="/ppt/media/image7.jpeg" ContentType="image/jpeg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B5B3-A1F6-41F0-8E58-33F7E055D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7AAC-4132-43DB-8A5D-D3373BE1A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6619-D32F-4BDB-9186-8EAE2466E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8471-A975-4AB3-883D-E9642D766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10469-5460-4B9B-86D9-025E2EC16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37478-AE0B-4F9A-891B-96055D1DA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72A7A-932B-4805-B7C2-169839B31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BCE2B-ADE2-49EF-A48A-7EAC55CA4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BBC22-AC46-4749-BDCC-6BB29C4F3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E79FE-93B3-4796-988E-05940A473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B55C2-0686-451D-A704-71E65D95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5287-24C7-4D44-8B26-F46605A16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60112-F5DE-4297-9522-3D30C05F5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B8326-9E3D-4240-9986-DCD0DB73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1DB87-265D-4300-98C0-97B1A6BC4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75ECC-C4A3-4E1C-A22F-F67BFDA97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25DFF-1B08-4592-A8E2-6C29D0450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12B8-088C-4166-B8D0-D60131844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4033-5909-451B-A0D5-65FC3D919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4FD8-7DE5-4480-A9F4-71B0DD864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4B65-6FF3-480B-9785-D7353E30E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4C69-1485-40B6-8243-096CBC4C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9D2E-F2E1-4014-BA9A-CD6A195AA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7508-5ADF-4B7F-9AD5-34504B6A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62CD4-DC57-4923-BD0E-DC72953D6BB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62B29-F32E-43A6-B004-5F43E0A789F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wmf"/><Relationship Id="rId7" Type="http://schemas.openxmlformats.org/officeDocument/2006/relationships/image" Target="../media/image13.wmf"/><Relationship Id="rId8" Type="http://schemas.openxmlformats.org/officeDocument/2006/relationships/image" Target="../media/image14.wmf"/><Relationship Id="rId9" Type="http://schemas.openxmlformats.org/officeDocument/2006/relationships/image" Target="../media/image15.png"/><Relationship Id="rId10" Type="http://schemas.openxmlformats.org/officeDocument/2006/relationships/image" Target="../media/image16.wmf"/><Relationship Id="rId11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pocanticohills.org/spiders/spiders.ht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Segoe Script"/>
              </a:rPr>
              <a:t>ALL ABOUT SPIDER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cript"/>
              </a:rPr>
              <a:t>BY: ISABELLE TAYL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aeaea"/>
                </a:solidFill>
                <a:latin typeface="Segoe Script"/>
              </a:rPr>
              <a:t>GARDEN SPIDERS</a:t>
            </a:r>
            <a:endParaRPr b="1" lang="en-US" sz="6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97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arden spiders make an orb web (like the one shown here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arden spiders  are harmless to humans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913280" y="4114440"/>
            <a:ext cx="3697200" cy="19810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4495680" cy="449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OOL AND CREEPY VOCABULAR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0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lting-”When a spider sheds it’s skin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agline-Long silk threads that drag behind the spid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315200" y="685800"/>
            <a:ext cx="1828800" cy="12477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607000" y="1905120"/>
            <a:ext cx="3537000" cy="42415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3962520" y="4876920"/>
            <a:ext cx="1684080" cy="19810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800600" y="0"/>
            <a:ext cx="0" cy="4876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Curlz MT"/>
              </a:rPr>
              <a:t>TWO QUOTES  FROM</a:t>
            </a:r>
            <a:r>
              <a:rPr b="1" lang="en-US" sz="4400" spc="-1" strike="noStrike">
                <a:solidFill>
                  <a:srgbClr val="eaeaea"/>
                </a:solidFill>
                <a:latin typeface="Edwardian Script ITC"/>
              </a:rPr>
              <a:t>  </a:t>
            </a:r>
            <a:r>
              <a:rPr b="1" lang="en-US" sz="4400" spc="-1" strike="noStrike">
                <a:solidFill>
                  <a:srgbClr val="eaeaea"/>
                </a:solidFill>
                <a:latin typeface="Curlz MT"/>
              </a:rPr>
              <a:t>CHARLOTTE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y legs are hairy for a good reason, …furthermore, each one of my legs  has seven sections-the coxa, the trochanter, the femur, the patella, the tiba, the metatarus and the tarsus.” pg 5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’m a sedentary spider.” pg 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Bradley Hand ITC"/>
              </a:rPr>
              <a:t>CREEPY CRAWLYS AND </a:t>
            </a: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Bradley Hand ITC"/>
              </a:rPr>
              <a:t>COOL SNAP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081160" y="1981080"/>
            <a:ext cx="1673280" cy="19875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097680" y="2146320"/>
            <a:ext cx="1323720" cy="16556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2081160" y="4270320"/>
            <a:ext cx="1674720" cy="16606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5753160" y="3048120"/>
            <a:ext cx="3390840" cy="29019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3581280" y="1981080"/>
            <a:ext cx="2362320" cy="17528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6"/>
          <a:stretch/>
        </p:blipFill>
        <p:spPr>
          <a:xfrm>
            <a:off x="0" y="685800"/>
            <a:ext cx="1428840" cy="1584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7"/>
          <a:stretch/>
        </p:blipFill>
        <p:spPr>
          <a:xfrm>
            <a:off x="3733920" y="5029200"/>
            <a:ext cx="1809720" cy="10238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8"/>
          <a:stretch/>
        </p:blipFill>
        <p:spPr>
          <a:xfrm>
            <a:off x="7315200" y="685800"/>
            <a:ext cx="1371600" cy="8985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9"/>
          <a:stretch/>
        </p:blipFill>
        <p:spPr>
          <a:xfrm>
            <a:off x="5334120" y="4114800"/>
            <a:ext cx="1724040" cy="17240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10"/>
          <a:stretch/>
        </p:blipFill>
        <p:spPr>
          <a:xfrm>
            <a:off x="5638680" y="914400"/>
            <a:ext cx="889200" cy="74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Segoe Print"/>
              </a:rPr>
              <a:t>My Web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2222640" y="1981080"/>
          <a:ext cx="52322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22640" y="1981080"/>
                    <a:ext cx="52322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HE END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534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ANK YO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http://www.pocanticohills.org/spiders/spiders.ht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4T20:40:54Z</dcterms:created>
  <dc:creator>arisefamily</dc:creator>
  <dc:description/>
  <dc:language>en-US</dc:language>
  <cp:lastModifiedBy>smiller</cp:lastModifiedBy>
  <dcterms:modified xsi:type="dcterms:W3CDTF">2009-10-12T20:37:50Z</dcterms:modified>
  <cp:revision>10</cp:revision>
  <dc:subject/>
  <dc:title>ALL ABOUT SPIDERS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913160415</vt:r8>
  </property>
  <property fmtid="{D5CDD505-2E9C-101B-9397-08002B2CF9AE}" pid="3" name="_AuthorEmail">
    <vt:lpwstr>arisefamily@comcast.net</vt:lpwstr>
  </property>
  <property fmtid="{D5CDD505-2E9C-101B-9397-08002B2CF9AE}" pid="4" name="_AuthorEmailDisplayName">
    <vt:lpwstr>Elizabeth Taylor</vt:lpwstr>
  </property>
  <property fmtid="{D5CDD505-2E9C-101B-9397-08002B2CF9AE}" pid="5" name="_EmailSubject">
    <vt:lpwstr>Isabelle's power point</vt:lpwstr>
  </property>
  <property fmtid="{D5CDD505-2E9C-101B-9397-08002B2CF9AE}" pid="6" name="_ReviewingToolsShownOnce">
    <vt:lpwstr/>
  </property>
</Properties>
</file>