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FA2-A457-4120-BA87-CEBF5349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485-FE9C-484B-BBD4-51E2F40A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2C6-F251-4809-AF71-A4C7FF80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B24-8C65-4F4E-AD21-D64EF55E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A8E6-0398-4E7B-9E80-FF2BAA05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7599-7FAC-4CF7-B2C3-4CE86D1A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61D5-1876-4F35-B519-96728D90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63CD-DF11-4C00-BA88-91A72C66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469B-F033-4201-A417-F1ED8A32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43F5-BCD7-430D-9DA3-9CCC0FCA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46E8-B4C9-47AE-BDDE-ADAF8898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6972-1F8E-487A-9735-6E75F8AC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9CF9-BD47-43C7-932F-E6EE32E8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23F6-7C9A-4F1B-88C8-41466AD9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9555-1375-4EC3-813C-CF9580E9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0FB0-8486-4935-8FFC-512619ED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5D2C-8EDC-42EC-9D68-DC062867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3CD-0591-4A87-8E30-61555D64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D45-CDC4-47AA-ADAE-9CE7FB0E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C5A-3010-46D2-8FAD-DA342797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69C-E8B7-4D39-941B-F7B3D7BB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083E-F8B6-4745-AA53-CC8D2408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B46-1D35-44BE-8814-A2955648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01D-2874-4A0C-BD21-B31B212E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51E1-0B0F-48C7-9A1C-10E1D6B342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33EA-606A-43CA-99E5-C78B89F4D8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canticohills.org/spiders/spiders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Segoe Script"/>
              </a:rPr>
              <a:t>ALL ABOUT SPI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cript"/>
              </a:rPr>
              <a:t>BY: ISABELLE TAY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Segoe Script"/>
              </a:rPr>
              <a:t>GARDEN SPIDERS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den spiders make an orb web (like the one shown here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den spiders  are harmless to human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13280" y="4114440"/>
            <a:ext cx="369720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OL AND CREEPY VOCABULA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lting-”When a spider sheds it’s skin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gline-Long silk threads that drag behind the spi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1828800" cy="12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607000" y="1905120"/>
            <a:ext cx="3537000" cy="4241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62520" y="4876920"/>
            <a:ext cx="1684080" cy="1981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00600" y="0"/>
            <a:ext cx="0" cy="4876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urlz MT"/>
              </a:rPr>
              <a:t>TWO QUOTES  FROM</a:t>
            </a:r>
            <a:r>
              <a:rPr b="1" lang="en-US" sz="4400" spc="-1" strike="noStrike">
                <a:solidFill>
                  <a:srgbClr val="eaeaea"/>
                </a:solidFill>
                <a:latin typeface="Edwardian Script ITC"/>
              </a:rPr>
              <a:t>  </a:t>
            </a:r>
            <a:r>
              <a:rPr b="1" lang="en-US" sz="4400" spc="-1" strike="noStrike">
                <a:solidFill>
                  <a:srgbClr val="eaeaea"/>
                </a:solidFill>
                <a:latin typeface="Curlz MT"/>
              </a:rPr>
              <a:t>CHARLOTTE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legs are hairy for a good reason, …furthermore, each one of my legs  has seven sections-the coxa, the trochanter, the femur, the patella, the tiba, the metatarus and the tarsus.” pg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’m a sedentary spider.” pg 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radley Hand ITC"/>
              </a:rPr>
              <a:t>CREEPY CRAWLYS AND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Bradley Hand ITC"/>
              </a:rPr>
              <a:t>COOL SNAP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81160" y="1981080"/>
            <a:ext cx="1673280" cy="1987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97680" y="2146320"/>
            <a:ext cx="1323720" cy="1655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081160" y="4270320"/>
            <a:ext cx="1674720" cy="1660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753160" y="3048120"/>
            <a:ext cx="3390840" cy="2901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581280" y="19810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0" y="685800"/>
            <a:ext cx="142884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3733920" y="5029200"/>
            <a:ext cx="1809720" cy="1023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7315200" y="685800"/>
            <a:ext cx="1371600" cy="898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5334120" y="411480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5638680" y="914400"/>
            <a:ext cx="8892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Segoe Print"/>
              </a:rPr>
              <a:t>My Web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22640" y="1981080"/>
          <a:ext cx="5232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2640" y="1981080"/>
                    <a:ext cx="5232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E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NK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pocanticohills.org/spiders/spiders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20:40:54Z</dcterms:created>
  <dc:creator>arisefamily</dc:creator>
  <dc:description/>
  <dc:language>en-US</dc:language>
  <cp:lastModifiedBy>smiller</cp:lastModifiedBy>
  <dcterms:modified xsi:type="dcterms:W3CDTF">2009-10-12T20:37:50Z</dcterms:modified>
  <cp:revision>10</cp:revision>
  <dc:subject/>
  <dc:title>ALL ABOUT SPIDERS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13160415</vt:r8>
  </property>
  <property fmtid="{D5CDD505-2E9C-101B-9397-08002B2CF9AE}" pid="3" name="_AuthorEmail">
    <vt:lpwstr>arisefamily@comcast.net</vt:lpwstr>
  </property>
  <property fmtid="{D5CDD505-2E9C-101B-9397-08002B2CF9AE}" pid="4" name="_AuthorEmailDisplayName">
    <vt:lpwstr>Elizabeth Taylor</vt:lpwstr>
  </property>
  <property fmtid="{D5CDD505-2E9C-101B-9397-08002B2CF9AE}" pid="5" name="_EmailSubject">
    <vt:lpwstr>Isabelle's power point</vt:lpwstr>
  </property>
  <property fmtid="{D5CDD505-2E9C-101B-9397-08002B2CF9AE}" pid="6" name="_ReviewingToolsShownOnce">
    <vt:lpwstr/>
  </property>
</Properties>
</file>