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13.wmf" ContentType="image/x-wmf"/>
  <Override PartName="/ppt/media/image9.png" ContentType="image/png"/>
  <Override PartName="/ppt/media/image17.png" ContentType="image/png"/>
  <Override PartName="/ppt/media/image16.wmf" ContentType="image/x-wmf"/>
  <Override PartName="/ppt/media/image14.wmf" ContentType="image/x-wmf"/>
  <Override PartName="/ppt/media/image5.jpeg" ContentType="image/jpeg"/>
  <Override PartName="/ppt/media/image1.png" ContentType="image/png"/>
  <Override PartName="/ppt/media/image15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11.jpeg" ContentType="image/jpeg"/>
  <Override PartName="/ppt/media/image12.wmf" ContentType="image/x-wmf"/>
  <Override PartName="/ppt/media/image7.jpeg" ContentType="image/jpeg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7063-B1D0-4044-9CFE-A7713A38B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8247-8964-425A-913C-39D2B49B0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5BF6-DC00-4249-8DC1-2981CB534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5167-6517-4896-B362-38C0A16DE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8FEE1-22C0-473E-8C14-3D184B0BC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2F33B-84CF-4F4E-B050-8A55900C5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89CD3-7A92-4861-A60C-BDBFF891B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5FA67-AF64-42D1-9D75-7773FD86E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D9C31-6BFE-47E1-B663-79F48E3DD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FE382-C99B-40AE-8873-A333A7EA8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C5733-C335-43EE-BED0-ABFDCC8C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49D4-DD4F-4CE5-99C2-D4D6916BC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0EAAA-5826-4FB2-88F1-0C01494A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054D4-350F-4E6E-9692-230E5AF3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A9FDC-F7D0-4DF3-8FB9-CA0394EF3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521A8-DD3E-456A-84CA-D4DF8D41D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2FC65-F38E-42D5-8E5C-35EB48914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7D5A-2C16-432E-BD60-7B0224F25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CEBE-2EDF-472F-9C10-9E53DF9A0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62F5-46B0-4C7D-A2A4-6061255B7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8FDE-E07F-4639-BF65-88121EB4C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CF1F-6E3B-4768-B348-04B86947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E984-97F2-4D9E-8930-48E9886C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6F33-DF55-4AB7-98E0-989173D4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C0C62-777B-4FBA-BDDA-CFB86140DFA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1B763-E1CB-4863-AB8C-2C089F3B828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image" Target="../media/image15.png"/><Relationship Id="rId10" Type="http://schemas.openxmlformats.org/officeDocument/2006/relationships/image" Target="../media/image16.wmf"/><Relationship Id="rId11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ocanticohills.org/spiders/spiders.ht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Segoe Script"/>
              </a:rPr>
              <a:t>ALL ABOUT SPIDER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cript"/>
              </a:rPr>
              <a:t>BY: ISABELLE TAYL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Segoe Script"/>
              </a:rPr>
              <a:t>GARDEN SPIDERS</a:t>
            </a:r>
            <a:endParaRPr b="1" lang="en-US" sz="6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97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arden spiders make an orb web (like the one shown here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arden spiders  are harmless to humans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913280" y="4114440"/>
            <a:ext cx="3697200" cy="1981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495680" cy="449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OOL AND CREEPY VOCABULAR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0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lting-”When a spider sheds it’s skin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agline-Long silk threads that drag behind the spid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315200" y="685800"/>
            <a:ext cx="1828800" cy="12477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607000" y="1905120"/>
            <a:ext cx="3537000" cy="42415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3962520" y="4876920"/>
            <a:ext cx="1684080" cy="19810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800600" y="0"/>
            <a:ext cx="0" cy="4876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Curlz MT"/>
              </a:rPr>
              <a:t>TWO QUOTES  FROM</a:t>
            </a:r>
            <a:r>
              <a:rPr b="1" lang="en-US" sz="4400" spc="-1" strike="noStrike">
                <a:solidFill>
                  <a:srgbClr val="eaeaea"/>
                </a:solidFill>
                <a:latin typeface="Edwardian Script ITC"/>
              </a:rPr>
              <a:t>  </a:t>
            </a:r>
            <a:r>
              <a:rPr b="1" lang="en-US" sz="4400" spc="-1" strike="noStrike">
                <a:solidFill>
                  <a:srgbClr val="eaeaea"/>
                </a:solidFill>
                <a:latin typeface="Curlz MT"/>
              </a:rPr>
              <a:t>CHARLOTTE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y legs are hairy for a good reason, …furthermore, each one of my legs  has seven sections-the coxa, the trochanter, the femur, the patella, the tiba, the metatarus and the tarsus.” pg 5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’m a sedentary spider.” pg 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Bradley Hand ITC"/>
              </a:rPr>
              <a:t>CREEPY CRAWLYS AND 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Bradley Hand ITC"/>
              </a:rPr>
              <a:t>COOL SNAP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081160" y="1981080"/>
            <a:ext cx="1673280" cy="1987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097680" y="2146320"/>
            <a:ext cx="1323720" cy="1655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2081160" y="4270320"/>
            <a:ext cx="1674720" cy="16606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5753160" y="3048120"/>
            <a:ext cx="3390840" cy="29019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3581280" y="1981080"/>
            <a:ext cx="2362320" cy="17528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0" y="685800"/>
            <a:ext cx="1428840" cy="1584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7"/>
          <a:stretch/>
        </p:blipFill>
        <p:spPr>
          <a:xfrm>
            <a:off x="3733920" y="5029200"/>
            <a:ext cx="1809720" cy="10238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8"/>
          <a:stretch/>
        </p:blipFill>
        <p:spPr>
          <a:xfrm>
            <a:off x="7315200" y="685800"/>
            <a:ext cx="1371600" cy="8985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9"/>
          <a:stretch/>
        </p:blipFill>
        <p:spPr>
          <a:xfrm>
            <a:off x="5334120" y="4114800"/>
            <a:ext cx="1724040" cy="17240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0"/>
          <a:stretch/>
        </p:blipFill>
        <p:spPr>
          <a:xfrm>
            <a:off x="5638680" y="914400"/>
            <a:ext cx="889200" cy="7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Segoe Print"/>
              </a:rPr>
              <a:t>My Web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222640" y="1981080"/>
          <a:ext cx="52322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2640" y="1981080"/>
                    <a:ext cx="52322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E EN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34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ANK Y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http://www.pocanticohills.org/spiders/spiders.ht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20:40:54Z</dcterms:created>
  <dc:creator>arisefamily</dc:creator>
  <dc:description/>
  <dc:language>en-US</dc:language>
  <cp:lastModifiedBy>smiller</cp:lastModifiedBy>
  <dcterms:modified xsi:type="dcterms:W3CDTF">2009-10-12T20:37:50Z</dcterms:modified>
  <cp:revision>10</cp:revision>
  <dc:subject/>
  <dc:title>ALL ABOUT SPIDERS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13160415</vt:r8>
  </property>
  <property fmtid="{D5CDD505-2E9C-101B-9397-08002B2CF9AE}" pid="3" name="_AuthorEmail">
    <vt:lpwstr>arisefamily@comcast.net</vt:lpwstr>
  </property>
  <property fmtid="{D5CDD505-2E9C-101B-9397-08002B2CF9AE}" pid="4" name="_AuthorEmailDisplayName">
    <vt:lpwstr>Elizabeth Taylor</vt:lpwstr>
  </property>
  <property fmtid="{D5CDD505-2E9C-101B-9397-08002B2CF9AE}" pid="5" name="_EmailSubject">
    <vt:lpwstr>Isabelle's power point</vt:lpwstr>
  </property>
  <property fmtid="{D5CDD505-2E9C-101B-9397-08002B2CF9AE}" pid="6" name="_ReviewingToolsShownOnce">
    <vt:lpwstr/>
  </property>
</Properties>
</file>