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D0D-27A4-468F-A5F2-D6EB01FA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590-F744-4050-8817-78254D1E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510-AA91-4A56-9B0E-FE012491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2D3-D915-41AF-85D3-E7F6D929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6BF6-2860-4507-B598-3C4BD6AD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13B9-D77D-4D25-867B-AEFFB2E4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A952-A289-4AE4-8C91-47EC1244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7CE9-BD26-4C35-B54F-3CD93B50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6ADD-2908-48C5-B811-8E76EBB0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29A7-ADCF-49C3-91E9-DDB319FF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ED40-AFBD-41FA-A283-3BEE10C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349-0EAF-4C7D-A2D2-A6572B23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75C3-6BE9-47E7-88FD-207419A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C56-EA31-4723-AA8E-D68F8E0B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385F-9333-419F-9101-C6247B2C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35EA-ED29-4503-816F-A50BC392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4CC9-77CF-421E-8DF5-F342B8AB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046-F9C1-4E37-88D1-7C81005C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896-6345-4B57-A979-9CC7F08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9AA-CCE4-468C-9EB9-E06668C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BD7-AEF8-42A0-AE16-AFE24A7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B27-1886-4B9E-BF5B-0C8A9F9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DFE-DD21-4BF0-A108-D60521E5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AA2-2904-4C0F-B5F4-C6FFF822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E35-6423-4B36-B5B0-AF67CE56ABE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2E30-60AB-4BF7-8E61-B183F2AAB6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EAKY spi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nthony Saff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garden spiders close their eyes and when a fly flies into their web they would feel the vibration of the movement and catch the insect’’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arden spider eats flies and other insects. It builds an orb web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stays in the middle of the web until a fly flies into it. As soon as this happens the garden spider goes to catch its prey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would like to thank pocanticohillselementary for all the information that I gath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45:31Z</dcterms:created>
  <dc:creator>Family2</dc:creator>
  <dc:description/>
  <dc:language>en-US</dc:language>
  <cp:lastModifiedBy>smiller</cp:lastModifiedBy>
  <dcterms:modified xsi:type="dcterms:W3CDTF">2009-10-12T20:36:33Z</dcterms:modified>
  <cp:revision>6</cp:revision>
  <dc:subject/>
  <dc:title>FREAKY spiders</dc:title>
</cp:coreProperties>
</file>