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035-F3EF-4300-96E2-74842817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471-B9D4-4BE3-AB66-E7C6A99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036-5D02-4556-9F88-A412081F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78D-CF11-4E50-826A-DD5BDA5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9FC7-B5E3-4386-8EE4-8192CE1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71F2-D018-428E-9C54-01133F49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140-04D5-4996-9179-842F834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080-18EC-4E66-8A26-A9F90086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6682-CBC4-44E7-B9F1-A8A9A9E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63BD-8BBE-4D40-A7B7-0A7EBA6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7C2-AF5A-43FD-B38E-27E0771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E5C-D591-4395-8CB4-C8C6072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40DF-9B22-4219-904D-D761300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7AD1-2FE6-40CB-BB8A-FAC2814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6F4-9A7C-4080-A15F-3FC4659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F95-9D80-44CD-97B3-43933DC1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333-3864-40AD-88A4-B6EB1376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10E-1CBD-42B8-B39F-829CFFC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A4A-21C7-45CC-A2F2-79FBFDFE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FD7-8540-4800-B54B-1EF1CB7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F8E-7CBA-4490-AE36-6FB4E702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6AF-BB38-4164-9A71-1FE1033C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E87-E675-4CEB-B26A-6CA6CF0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ED0-DF89-4A76-80BD-7DC03C5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B54-08A4-4942-9FC7-BB3EE4AD5F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6A5-AAE3-46EF-9CE4-2FF4436083D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EAKY spi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nthony Saffor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garden spiders close their eyes and when a fly flies into their web they would feel the vibration of the movement and catch the insect’’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garden spider eats flies and other insects. It builds an orb web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‘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stays in the middle of the web until a fly flies into it. As soon as this happens the garden spider goes to catch its prey’’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 would like to thank pocanticohillselementary for all the information that I gath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45:31Z</dcterms:created>
  <dc:creator>Family2</dc:creator>
  <dc:description/>
  <dc:language>en-US</dc:language>
  <cp:lastModifiedBy>smiller</cp:lastModifiedBy>
  <dcterms:modified xsi:type="dcterms:W3CDTF">2009-10-12T20:36:33Z</dcterms:modified>
  <cp:revision>6</cp:revision>
  <dc:subject/>
  <dc:title>FREAKY spiders</dc:title>
</cp:coreProperties>
</file>