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DEB-431D-4E26-9082-8126F24E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649-05AC-44B9-A097-727E632D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BD5-5AFD-49DA-A36F-F2153077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022-F0CF-4B31-A9B1-0AE4CE25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A39C-F9CB-4887-81E9-4A1AF62A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378F-CB90-487A-A511-D5B1B647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0CD7-55F3-4125-88FB-40B6682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E210-24DC-495C-BE52-BC0CFC4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3108-906F-462F-85E2-3FA21DE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1762-32CD-484B-A5E6-BE99A612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CAD9-9358-4BF0-AB46-447121F7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921-5775-46FB-AFEB-1B01B90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0276-0653-4814-9B6D-5895B4E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1A9D-B644-49FC-8356-0A2C2D07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56A5-6D4F-452A-A548-D5A2FA96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39B7-F95C-44AD-912D-72009363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F1E8-6E04-4DE9-AFB1-892B4C71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2B3-4DF4-443A-9F2A-10574036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4C5-84C7-462E-8E26-7F4C822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77B-8B6C-4A55-8675-33DC2C23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9D2-8540-4B14-8015-402967D0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4A6-8823-46A8-AC4B-E61473FD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438-0DCD-449A-B6E2-B16F785D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33D-CCF3-4748-8FAC-6D3E6599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1D83-CDE4-426F-827A-ABAB5AECF57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54EE-A8D9-4181-999D-0828765EACB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REAKY spid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nthony Saffo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garden spiders close their eyes and when a fly flies into their web they would feel the vibration of the movement and catch the insect’’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garden spider eats flies and other insects. It builds an orb web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stays in the middle of the web until a fly flies into it. As soon as this happens the garden spider goes to catch its prey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would like to thank pocanticohillselementary for all the information that I gathe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45:31Z</dcterms:created>
  <dc:creator>Family2</dc:creator>
  <dc:description/>
  <dc:language>en-US</dc:language>
  <cp:lastModifiedBy>smiller</cp:lastModifiedBy>
  <dcterms:modified xsi:type="dcterms:W3CDTF">2009-10-12T20:36:33Z</dcterms:modified>
  <cp:revision>6</cp:revision>
  <dc:subject/>
  <dc:title>FREAKY spiders</dc:title>
</cp:coreProperties>
</file>