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747D-30D7-475F-8F23-9645BB15D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6DF2-8D14-4D33-8056-60A1D384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F3E5-C9F1-4A00-B702-391252CD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1581-8B98-4887-940F-17AD49D45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8F36-E8F7-4395-A88B-8454036DD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491D-4C36-4A49-9A63-3FC4D7E9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F3AD-0551-4260-870C-C363F94D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3FDA-EEB3-4B1F-A692-F68E56FF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858F-D919-42CC-B93E-7E71E6CD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BFAE-9200-4891-9691-B233711D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6301-CA32-47E1-8B1B-F8C642C1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BB75-2846-42FA-ABBE-557FD041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2311-898E-4DB9-8B85-156CBCF0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3C4F-B75A-4223-991A-CB526986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3E85-AC8C-4FA4-A90C-78909A79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3D6C-0711-4761-87C1-A7B4F5094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2999-FE7F-4AE7-BBF0-019F6E3DB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109B-360E-4DE7-976F-389DBEB6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88EB-EAAA-403F-92BB-3821AB41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1939-6E79-41D5-863D-FCDC0383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DC55-C47E-4AEE-B5F8-079D4CBC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119A-E46B-467B-A05F-D4A94554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9D2E-9F24-47BA-8850-062D6684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F267-2F36-486A-B09E-A0863F7C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9E0F-91D0-4036-A248-B87B16AD862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EB9D-A18F-404C-B774-BB472690CEF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REAKY spide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: Anthony Saffor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‘’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ome garden spiders close their eyes and when a fly flies into their web they would feel the vibration of the movement and catch the insect’’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‘’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garden spider eats flies and other insects. It builds an orb web’’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‘’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t stays in the middle of the web until a fly flies into it. As soon as this happens the garden spider goes to catch its prey’’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 would like to thank pocanticohillselementary for all the information that I gather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6:45:31Z</dcterms:created>
  <dc:creator>Family2</dc:creator>
  <dc:description/>
  <dc:language>en-US</dc:language>
  <cp:lastModifiedBy>smiller</cp:lastModifiedBy>
  <dcterms:modified xsi:type="dcterms:W3CDTF">2009-10-12T20:36:33Z</dcterms:modified>
  <cp:revision>6</cp:revision>
  <dc:subject/>
  <dc:title>FREAKY spiders</dc:title>
</cp:coreProperties>
</file>