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F9C-EE7F-466B-900F-D1297C33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1001-DBE1-4735-925D-BC28A45B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D0A-106F-4F4F-B26F-E8BF8C20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E6C-B303-444A-A340-05757180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79DF-D4DD-4B76-A803-7832064C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EE2B-31AC-4B37-8AD9-229A4557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F672-B5A9-4EE7-BB95-73FEDAAB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9606-CF08-4062-97C6-0BABCAC2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90CC-BAC4-4851-9280-4053D2AD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7E3E-C215-4845-9D9E-BD1C8F91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1861-2483-47EC-9E9C-59E9CF90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116-F77F-4340-AEC1-151E5C19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7AC4-A0E6-4FF8-A59D-0FC9E71F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FB33-6820-4EA7-BDA2-B97D3DB9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4E98-984C-4C93-B125-59190CF3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0B4C-0139-45E7-8F03-341AF27B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AEB6-1285-4DEA-98A3-2430388F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05A-7161-4079-B359-3A6FB006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DB9-4149-484E-9529-1E5AF693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AAB-6499-4BA5-84D5-89CB8FF4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173-B3A9-48FE-AC88-4E870AAA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A0C0-7CD6-479B-BC90-2564A37B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EF9-4BAB-48F6-AA80-3292D87F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DB4-B7C8-433E-90C7-9FAE4661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1D05-C1A5-4B33-B291-BC41DA58CA2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8D1A-6FB1-4ED9-A280-AA29D642011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REAKY spid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Anthony Saffor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 garden spiders close their eyes and when a fly flies into their web they would feel the vibration of the movement and catch the insect’’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garden spider eats flies and other insects. It builds an orb web’’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stays in the middle of the web until a fly flies into it. As soon as this happens the garden spider goes to catch its prey’’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would like to thank pocanticohillselementary for all the information that I gather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6:45:31Z</dcterms:created>
  <dc:creator>Family2</dc:creator>
  <dc:description/>
  <dc:language>en-US</dc:language>
  <cp:lastModifiedBy>smiller</cp:lastModifiedBy>
  <dcterms:modified xsi:type="dcterms:W3CDTF">2009-10-12T20:36:33Z</dcterms:modified>
  <cp:revision>6</cp:revision>
  <dc:subject/>
  <dc:title>FREAKY spiders</dc:title>
</cp:coreProperties>
</file>