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gif" ContentType="image/gi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move the slide</a:t>
            </a:r>
            <a:endParaRPr b="0" lang="en-US" sz="4400" spc="-1" strike="noStrike">
              <a:solidFill>
                <a:srgbClr val="ffffcc"/>
              </a:solidFill>
              <a:latin typeface="Lucida Sans Unicode"/>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8899-5C70-43E7-99D9-BC1DA43442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EE74-19BD-4484-877A-4032FA5732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D6CC-F436-4524-81BD-8C50E12717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F24B-AEB4-46A0-A63C-35F39EE9EB0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C76F-143C-48BF-AEBF-D84072B2A4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5218-5EEC-41AF-968B-6EFFC876FDF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DA87-91BD-4A84-96B5-527B4459AB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2661-A63F-476A-B031-901A0877F5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EC2E-9FEE-4B32-959C-387D4F34E6C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61AB-09E5-42B6-B691-578D8B52068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9C2C-D254-416C-94A5-6696D9D76F5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7321D-0CFA-4EB9-A8BC-B1E3B1B09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41E1-E8F8-4E3C-83A3-644F4548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F0A46-C460-4471-A998-9E2DB387E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C46E8-95E0-4E94-99C4-AB8AC98E1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77B84-1FAF-4529-AA91-F2EBA4BC0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B11B2-FB5A-4CB5-876B-479C51C2C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98D68-D009-4C96-9549-4B2CD8A69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21099-4F5C-45B6-BCEE-09E0A00EF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95749-A582-462D-BDC4-D31898068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A919A-E9F3-46FB-A3DC-FC2C8D49D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756C2-7A3A-49BD-A390-447B8ADA7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7B552-3CD9-4BFA-99A1-75AC2A887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F62B1-6494-48E1-92D3-EB8F2C48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5B116-2DBE-46F0-9792-200454EB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3D033-6798-43B3-8425-9C09FEC99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60C39-7BB3-4DAE-A203-DA359F8C2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4DA1D-516A-4AB9-8F0D-39102347C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FE2ED-E075-4DD0-89C5-700C272D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32A42-C4E3-4729-AC9B-44BFEA01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16EA5-5D19-4B51-927A-4DF2F891B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9543-E2E5-48D6-8497-3D77E384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2768-DF9D-4D84-85C0-C2B6279DB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DF07-54AA-4441-A4DB-E63E73D7E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A635C-933C-4DFC-B103-2FAF42C39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0BA5-0848-456F-BA02-0BFE686E1E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BBBE-A2CF-4F92-BF71-EF16BB4DF1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School+Clip+Art"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5"/>
          <p:cNvSpPr txBox="1"/>
          <p:nvPr/>
        </p:nvSpPr>
        <p:spPr>
          <a:xfrm>
            <a:off x="1066680" y="1676520"/>
            <a:ext cx="68580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ird Grad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arent Information Night</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6" name="Rectangle 1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12"/>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14" descr="School_Clip_Art_162"/>
          <p:cNvPicPr/>
          <p:nvPr/>
        </p:nvPicPr>
        <p:blipFill>
          <a:blip r:embed="rId1"/>
          <a:stretch/>
        </p:blipFill>
        <p:spPr>
          <a:xfrm>
            <a:off x="1219320" y="4114800"/>
            <a:ext cx="2752560" cy="2317680"/>
          </a:xfrm>
          <a:prstGeom prst="rect">
            <a:avLst/>
          </a:prstGeom>
          <a:ln w="0">
            <a:noFill/>
          </a:ln>
        </p:spPr>
      </p:pic>
      <p:pic>
        <p:nvPicPr>
          <p:cNvPr id="99" name="Picture 20" descr="www.communitylegalcentre.ca">
            <a:hlinkClick r:id="rId2"/>
          </p:cNvPr>
          <p:cNvPicPr/>
          <p:nvPr/>
        </p:nvPicPr>
        <p:blipFill>
          <a:blip r:embed="rId3"/>
          <a:stretch/>
        </p:blipFill>
        <p:spPr>
          <a:xfrm>
            <a:off x="5562720" y="4314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Graduate of Johnson Bible College with a major in Elementary Education and Bibl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This is my 6</a:t>
            </a:r>
            <a:r>
              <a:rPr b="0" lang="en-US" sz="2000" spc="-1" strike="noStrike" baseline="30000">
                <a:solidFill>
                  <a:srgbClr val="0066ff"/>
                </a:solidFill>
                <a:latin typeface="Lucida Sans Unicode"/>
              </a:rPr>
              <a:t>th</a:t>
            </a:r>
            <a:r>
              <a:rPr b="0" lang="en-US" sz="2000" spc="-1" strike="noStrike">
                <a:solidFill>
                  <a:srgbClr val="0066ff"/>
                </a:solidFill>
                <a:latin typeface="Lucida Sans Unicode"/>
              </a:rPr>
              <a:t> year with TPC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Wife to Scott for 10 year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Mother to Megan and Hannah</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n April,2008 our 8 year old daughter, Megan passed away.  We are doing our best to handle the grief and still function day to day, but some days are a struggle.  Being with the children helps to ease some of that pain and allows me to “mother” them while they are with m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 absolutely LOVE teaching and could not imagine myself doing anything else.  I love to see the excitement on the children’s faces as they “get” a new concept and love to make the learning process fun for them when at all possible.</a:t>
            </a:r>
            <a:endParaRPr b="0" lang="en-US" sz="2000" spc="-1" strike="noStrike">
              <a:solidFill>
                <a:srgbClr val="ffffff"/>
              </a:solidFill>
              <a:latin typeface="Lucida Sans Unicode"/>
            </a:endParaRPr>
          </a:p>
        </p:txBody>
      </p:sp>
      <p:sp>
        <p:nvSpPr>
          <p:cNvPr id="120" name="WordArt 4"/>
          <p:cNvSpPr txBox="1"/>
          <p:nvPr/>
        </p:nvSpPr>
        <p:spPr>
          <a:xfrm>
            <a:off x="1219320" y="457200"/>
            <a:ext cx="63244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rPr>
              <a:t>About Mrs. Miller</a:t>
            </a:r>
            <a:endPar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66ff"/>
        </a:solidFill>
      </p:bgPr>
    </p:bg>
    <p:spTree>
      <p:nvGrpSpPr>
        <p:cNvPr id="1" name=""/>
        <p:cNvGrpSpPr/>
        <p:nvPr/>
      </p:nvGrpSpPr>
      <p:grpSpPr>
        <a:xfrm>
          <a:off x="0" y="0"/>
          <a:ext cx="0" cy="0"/>
          <a:chOff x="0" y="0"/>
          <a:chExt cx="0" cy="0"/>
        </a:xfrm>
      </p:grpSpPr>
      <p:pic>
        <p:nvPicPr>
          <p:cNvPr id="121" name="Picture 19" descr=" Click to View My Album "/>
          <p:cNvPicPr/>
          <p:nvPr/>
        </p:nvPicPr>
        <p:blipFill>
          <a:blip r:embed="rId1"/>
          <a:stretch/>
        </p:blipFill>
        <p:spPr>
          <a:xfrm>
            <a:off x="6095880" y="3581280"/>
            <a:ext cx="1890720" cy="2895840"/>
          </a:xfrm>
          <a:prstGeom prst="rect">
            <a:avLst/>
          </a:prstGeom>
          <a:ln w="0">
            <a:noFill/>
          </a:ln>
        </p:spPr>
      </p:pic>
      <p:pic>
        <p:nvPicPr>
          <p:cNvPr id="122" name="Picture 4" descr="Family Pics 002"/>
          <p:cNvPicPr/>
          <p:nvPr/>
        </p:nvPicPr>
        <p:blipFill>
          <a:blip r:embed="rId2"/>
          <a:stretch/>
        </p:blipFill>
        <p:spPr>
          <a:xfrm>
            <a:off x="609480" y="1415880"/>
            <a:ext cx="2971800" cy="2127600"/>
          </a:xfrm>
          <a:prstGeom prst="rect">
            <a:avLst/>
          </a:prstGeom>
          <a:ln w="0">
            <a:noFill/>
          </a:ln>
        </p:spPr>
      </p:pic>
      <p:pic>
        <p:nvPicPr>
          <p:cNvPr id="123" name="Picture 6" descr="Megan 005"/>
          <p:cNvPicPr/>
          <p:nvPr/>
        </p:nvPicPr>
        <p:blipFill>
          <a:blip r:embed="rId3"/>
          <a:stretch/>
        </p:blipFill>
        <p:spPr>
          <a:xfrm>
            <a:off x="2971800" y="3124080"/>
            <a:ext cx="3238560" cy="2171880"/>
          </a:xfrm>
          <a:prstGeom prst="rect">
            <a:avLst/>
          </a:prstGeom>
          <a:ln w="0">
            <a:noFill/>
          </a:ln>
        </p:spPr>
      </p:pic>
      <p:pic>
        <p:nvPicPr>
          <p:cNvPr id="124" name="Picture 8" descr="Meg and Hannah"/>
          <p:cNvPicPr/>
          <p:nvPr/>
        </p:nvPicPr>
        <p:blipFill>
          <a:blip r:embed="rId4"/>
          <a:stretch/>
        </p:blipFill>
        <p:spPr>
          <a:xfrm>
            <a:off x="5105520" y="1295280"/>
            <a:ext cx="2895480" cy="2171880"/>
          </a:xfrm>
          <a:prstGeom prst="rect">
            <a:avLst/>
          </a:prstGeom>
          <a:ln w="0">
            <a:noFill/>
          </a:ln>
        </p:spPr>
      </p:pic>
      <p:pic>
        <p:nvPicPr>
          <p:cNvPr id="125" name="Picture 10" descr="Hannah's Haircut 008"/>
          <p:cNvPicPr/>
          <p:nvPr/>
        </p:nvPicPr>
        <p:blipFill>
          <a:blip r:embed="rId5"/>
          <a:stretch/>
        </p:blipFill>
        <p:spPr>
          <a:xfrm>
            <a:off x="1066680" y="3809880"/>
            <a:ext cx="1971720" cy="2629080"/>
          </a:xfrm>
          <a:prstGeom prst="rect">
            <a:avLst/>
          </a:prstGeom>
          <a:ln w="0">
            <a:noFill/>
          </a:ln>
        </p:spPr>
      </p:pic>
      <p:sp>
        <p:nvSpPr>
          <p:cNvPr id="126" name="WordArt 17"/>
          <p:cNvSpPr txBox="1"/>
          <p:nvPr/>
        </p:nvSpPr>
        <p:spPr>
          <a:xfrm>
            <a:off x="2362320" y="380880"/>
            <a:ext cx="4038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rPr>
              <a:t>My Family</a:t>
            </a:r>
            <a:endPar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ea typeface="Kristen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I know that we are going to have a great year!</a:t>
            </a:r>
            <a:endParaRPr b="0" lang="en-US" sz="3200" spc="-1" strike="noStrike">
              <a:solidFill>
                <a:srgbClr val="ffffff"/>
              </a:solidFill>
              <a:latin typeface="Lucida Sans Unicode"/>
            </a:endParaRPr>
          </a:p>
        </p:txBody>
      </p:sp>
      <p:sp>
        <p:nvSpPr>
          <p:cNvPr id="128"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Lucida Sans Unicode"/>
              </a:rPr>
              <a:t>Thank you all for coming!</a:t>
            </a:r>
            <a:endParaRPr b="0" lang="en-US" sz="5400" spc="-1" strike="noStrike">
              <a:solidFill>
                <a:srgbClr val="ffffcc"/>
              </a:solidFill>
              <a:latin typeface="Lucida Sans Unicode"/>
            </a:endParaRPr>
          </a:p>
        </p:txBody>
      </p:sp>
      <p:pic>
        <p:nvPicPr>
          <p:cNvPr id="129" name="Picture 8" descr="schoolbus"/>
          <p:cNvPicPr/>
          <p:nvPr/>
        </p:nvPicPr>
        <p:blipFill>
          <a:blip r:embed="rId1"/>
          <a:stretch/>
        </p:blipFill>
        <p:spPr>
          <a:xfrm>
            <a:off x="6477120" y="4572000"/>
            <a:ext cx="1957320" cy="2038320"/>
          </a:xfrm>
          <a:prstGeom prst="rect">
            <a:avLst/>
          </a:prstGeom>
          <a:ln w="0">
            <a:noFill/>
          </a:ln>
        </p:spPr>
      </p:pic>
      <p:pic>
        <p:nvPicPr>
          <p:cNvPr id="130" name="Picture 10" descr="an_pencil-dancing"/>
          <p:cNvPicPr/>
          <p:nvPr/>
        </p:nvPicPr>
        <p:blipFill>
          <a:blip r:embed="rId2"/>
          <a:stretch/>
        </p:blipFill>
        <p:spPr>
          <a:xfrm>
            <a:off x="609480" y="4191120"/>
            <a:ext cx="1963800" cy="2438280"/>
          </a:xfrm>
          <a:prstGeom prst="rect">
            <a:avLst/>
          </a:prstGeom>
          <a:ln w="0">
            <a:noFill/>
          </a:ln>
        </p:spPr>
      </p:pic>
      <p:pic>
        <p:nvPicPr>
          <p:cNvPr id="131" name="Picture 12" descr="bookworm"/>
          <p:cNvPicPr/>
          <p:nvPr/>
        </p:nvPicPr>
        <p:blipFill>
          <a:blip r:embed="rId3"/>
          <a:stretch/>
        </p:blipFill>
        <p:spPr>
          <a:xfrm>
            <a:off x="457200" y="228600"/>
            <a:ext cx="2666880" cy="1251000"/>
          </a:xfrm>
          <a:prstGeom prst="rect">
            <a:avLst/>
          </a:prstGeom>
          <a:ln w="0">
            <a:noFill/>
          </a:ln>
        </p:spPr>
      </p:pic>
      <p:pic>
        <p:nvPicPr>
          <p:cNvPr id="132" name="Picture 14" descr="computer"/>
          <p:cNvPicPr/>
          <p:nvPr/>
        </p:nvPicPr>
        <p:blipFill>
          <a:blip r:embed="rId4"/>
          <a:stretch/>
        </p:blipFill>
        <p:spPr>
          <a:xfrm>
            <a:off x="6705720" y="304920"/>
            <a:ext cx="147312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Lucida Sans Unicode"/>
              </a:rPr>
              <a:t>Field Trip to the Guard Pig Farm in Lafayette Indiana</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Mini Mall Economics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Lucida Sans Unicode"/>
              </a:rPr>
              <a:t>Chocolate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Lucida Sans Unicode"/>
              </a:rPr>
              <a:t>Rube Goldberg Science Project/Presentation</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Lucida Sans Unicode"/>
              </a:rPr>
              <a:t>Pioneer Unit and Pioneer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Lucida Sans Unicode"/>
              </a:rPr>
              <a:t>Field Trip to Conner Prairie Living History Museum</a:t>
            </a:r>
            <a:endParaRPr b="0" lang="en-US" sz="2800" spc="-1" strike="noStrike">
              <a:solidFill>
                <a:srgbClr val="ffffff"/>
              </a:solidFill>
              <a:latin typeface="Lucida Sans Unicode"/>
            </a:endParaRPr>
          </a:p>
        </p:txBody>
      </p:sp>
      <p:sp>
        <p:nvSpPr>
          <p:cNvPr id="101" name="WordArt 4"/>
          <p:cNvSpPr txBox="1"/>
          <p:nvPr/>
        </p:nvSpPr>
        <p:spPr>
          <a:xfrm>
            <a:off x="1295280" y="457200"/>
            <a:ext cx="64771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rPr>
              <a:t>Highlights of the Year</a:t>
            </a:r>
            <a:endPar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Color Poetry Writing</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Lucida Sans Unicode"/>
              </a:rPr>
              <a:t>Recycling Projec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Unicode"/>
              </a:rPr>
              <a:t>Exploding Science Experimen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Lucida Sans Unicode"/>
              </a:rPr>
              <a:t>Thanksgiving Feast</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Lucida Sans Unicode"/>
              </a:rPr>
              <a:t>President Book Reports/Presentation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Lucida Sans Unicode"/>
              </a:rPr>
              <a:t>Daily Fun Activities that make learning enjoyable.</a:t>
            </a:r>
            <a:endParaRPr b="0" lang="en-US" sz="3200" spc="-1" strike="noStrike">
              <a:solidFill>
                <a:srgbClr val="ffffff"/>
              </a:solidFill>
              <a:latin typeface="Lucida Sans Unicode"/>
            </a:endParaRPr>
          </a:p>
        </p:txBody>
      </p:sp>
      <p:sp>
        <p:nvSpPr>
          <p:cNvPr id="103" name="Text Box 5"/>
          <p:cNvSpPr/>
          <p:nvPr/>
        </p:nvSpPr>
        <p:spPr>
          <a:xfrm>
            <a:off x="457200" y="1676520"/>
            <a:ext cx="8153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WordArt 7"/>
          <p:cNvSpPr txBox="1"/>
          <p:nvPr/>
        </p:nvSpPr>
        <p:spPr>
          <a:xfrm>
            <a:off x="1295280" y="533520"/>
            <a:ext cx="6810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ditional Projects and Learning Fu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fferentiation</a:t>
            </a:r>
            <a:endParaRPr b="0" lang="en-US" sz="4400" spc="-1" strike="noStrike">
              <a:solidFill>
                <a:srgbClr val="ffffcc"/>
              </a:solidFill>
              <a:latin typeface="Lucida Sans Unicode"/>
            </a:endParaRPr>
          </a:p>
        </p:txBody>
      </p:sp>
      <p:sp>
        <p:nvSpPr>
          <p:cNvPr id="106"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ree Separate Groups designed to meet each third grader at their level of understanding in math and reading with the goal of achieving the greatest strides in learning.</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Bayer, Mrs. Guard, and Mrs. Miller will each take an ability group and gear activities to meet each child’s needs.</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No child will be “stuck” in a particular group.</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ssessment will be ongoing throughout the school year with special assessment happening during NWEA in late September and the spring, I-Step+ testing in the spring, and Dibels testing at the beginning of the second semester and again at the end of the year.</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goal is to see that each child is receiving instruction that will make them successful, helping them to learn in a way most profitable to them.</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Each child will take a spelling pretest on Monday morning.  Based upon their score, the children will either continue to practice the regular spelling list (List B) or will be given a challenge spelling list (List 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Guard and I found that many of the students already knew how to spell many of the words and were not being challenged in the area of spelling and so we developed Spelling Packets and the differentiated spelling list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Spelling Packets will be due each week on Thursday.  The children will have a chance to choose from several ways to practice their spelling word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n option is Spelling City.  At www.spellingcity.com</a:t>
            </a: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the children can find their spelling list for the week and choose from many different games to study their words.  Please sign your child’s Spelling Packet to indicate their score and which games your child chose.</a:t>
            </a:r>
            <a:endParaRPr b="0" lang="en-US" sz="2000" spc="-1" strike="noStrike">
              <a:solidFill>
                <a:srgbClr val="ffffff"/>
              </a:solidFill>
              <a:latin typeface="Lucida Sans Unicode"/>
            </a:endParaRPr>
          </a:p>
        </p:txBody>
      </p:sp>
      <p:sp>
        <p:nvSpPr>
          <p:cNvPr id="108" name="WordArt 4"/>
          <p:cNvSpPr txBox="1"/>
          <p:nvPr/>
        </p:nvSpPr>
        <p:spPr>
          <a:xfrm>
            <a:off x="1219320" y="304920"/>
            <a:ext cx="6629400" cy="109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rPr>
              <a:t> </a:t>
            </a:r>
            <a:endPar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ea typeface="Impact"/>
            </a:endParaRPr>
          </a:p>
        </p:txBody>
      </p:sp>
      <p:sp>
        <p:nvSpPr>
          <p:cNvPr id="109" name="TextBox 3"/>
          <p:cNvSpPr/>
          <p:nvPr/>
        </p:nvSpPr>
        <p:spPr>
          <a:xfrm>
            <a:off x="762120" y="380880"/>
            <a:ext cx="7391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tencil"/>
              </a:rPr>
              <a:t>Spelling</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scipline Policy</a:t>
            </a:r>
            <a:endParaRPr b="0" lang="en-US" sz="4400" spc="-1" strike="noStrike">
              <a:solidFill>
                <a:srgbClr val="ffffcc"/>
              </a:solidFill>
              <a:latin typeface="Lucida Sans Unicode"/>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I use a color, card system to keep track of student behavior.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ach child begins each day with a green card signaling that they are ready to go for the day.</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Students can “Pull a Card” for various reasons (not having materials for the day ~planners signed, homework completed, etc.)  and also for behavior issues (being disruptive or distracting in class, not treating another with respect).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 Yellow Card is a warning. The student needs to slow down and prevent this issue from happening again.  A Red Card indicates that things are not going so well, and we need to STOP the behavior now.  A Blue Card indicates that things are beginning to get out of hand.  I will be calling you and also having a discussion with Mr. Walker about the situation at this point.  A Purple Card is a Free Pass to the office.  While there, the student will have a discussion with Mr. Walker and myself that will include a call home from the child describing the problem that has caused the need for the visit.</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e Discipline Cards also provide the students with a means to earn money to be used in Classroom stores and Mini Mall.  Each day that a child has a green or yellow card, they earn a dollar toward classroom spending.  The children will be given opportunities to make spending choices on a regular basis.  The children will also be given check books and will complete banking transactions weekly during our economics unit in November and December.</a:t>
            </a:r>
            <a:endParaRPr b="0" lang="en-US" sz="1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Lucida Sans Unicode"/>
              </a:rPr>
              <a:t>How You Can Help!</a:t>
            </a:r>
            <a:br>
              <a:rPr sz="4000"/>
            </a:br>
            <a:endParaRPr b="0" lang="en-US" sz="4000" spc="-1" strike="noStrike">
              <a:solidFill>
                <a:srgbClr val="ffffcc"/>
              </a:solidFill>
              <a:latin typeface="Lucida Sans Unicode"/>
            </a:endParaRPr>
          </a:p>
        </p:txBody>
      </p:sp>
      <p:sp>
        <p:nvSpPr>
          <p:cNvPr id="113" name=""/>
          <p:cNvSpPr txBox="1"/>
          <p:nvPr/>
        </p:nvSpPr>
        <p:spPr>
          <a:xfrm>
            <a:off x="457200" y="1600200"/>
            <a:ext cx="8229600" cy="449568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Volunteer your time for Special Events ~ Field Trips, Theme Days, Mini Mall, etc.</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ign your child’s planner each night and check to see that ALL homework has been completed.</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Be sure that your child arrives at school each day on time (No later than 8:20 a.m.)</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Actively communicate with me about concerns/questions that you might have regarding things going on at school.  Those things do not have to be limited to academic concerns, but can also include social interaction or spiritual matters, as wel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Keep your child home, if they are sick! </a:t>
            </a:r>
            <a:r>
              <a:rPr b="0" lang="en-US" sz="1400" spc="-1" strike="noStrike">
                <a:solidFill>
                  <a:srgbClr val="ffffff"/>
                </a:solidFill>
                <a:latin typeface="Wingdings"/>
                <a:ea typeface="Wingdings"/>
              </a:rPr>
              <a:t></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Check Net Classroom each evening for new announcements, new grades, or special activities related to schoo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Encourage your child to show you our two class websites.  They are very excited about the opportunities to post their work and will be thrilled when you show an interest in what they are doing online.</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tart saving your trash! </a:t>
            </a:r>
            <a:r>
              <a:rPr b="0" lang="en-US" sz="1400" spc="-1" strike="noStrike">
                <a:solidFill>
                  <a:srgbClr val="ffffff"/>
                </a:solidFill>
                <a:latin typeface="Wingdings"/>
                <a:ea typeface="Wingdings"/>
              </a:rPr>
              <a:t></a:t>
            </a:r>
            <a:r>
              <a:rPr b="0" lang="en-US" sz="1400" spc="-1" strike="noStrike">
                <a:solidFill>
                  <a:srgbClr val="ffffff"/>
                </a:solidFill>
                <a:latin typeface="Lucida Sans Unicode"/>
              </a:rPr>
              <a:t>  During December, we will be completing a recycling project that will repurpose materials.  We will need newspaper, empty cans, empty water and 2L bottles, paper towel/toilet paper rolls, and any other material that could be repurposed into something useful for the children.</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We desperately need a Heavy Duty, Continuous Use Pencil Sharpener for our classroom.</a:t>
            </a:r>
            <a:endParaRPr b="0" lang="en-US" sz="1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Service Opportunities</a:t>
            </a:r>
            <a:endParaRPr b="0" lang="en-US" sz="4400" spc="-1" strike="noStrike">
              <a:solidFill>
                <a:srgbClr val="ffffcc"/>
              </a:solidFill>
              <a:latin typeface="Lucida Sans Unicode"/>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Compassion Child ~ Austin from Kenya</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Caring Bags to be distributed through the New Witham ER in Anson funded by a grant from Boone County Youth as Resources.</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peration Christmas Child Boxes ~ Boxes filled with inexpensive toys, school supplies, medicines, and socks that are distributed to orphans and poor children all over the globe.  Each box will contain a note written by our class expressing our love and prayers for the needy child.</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 spring service opportunity still to be decided.  I would love suggestions, if you know of a need that we could meet.</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71600"/>
            <a:ext cx="4038480" cy="44956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Lucida Sans Unicode"/>
              </a:rPr>
              <a:t>Wiki Spaces</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http://www.mrsmillersclasstpca.wikispaces.com/</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Safe, Internet Environment for children to share projects, writing, and video with parents, relatives, and friend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Open only by Invitation.  Mrs. Miller has the control of accepting or denying any user applying to use the site.</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The children are so excited about integrating technology into our lessons and cannot wait to begin sharing their projects with you.</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Each family will receive a detailed copy of the requirements/parameters for using the wiki.</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p:txBody>
      </p:sp>
      <p:sp>
        <p:nvSpPr>
          <p:cNvPr id="117" name=""/>
          <p:cNvSpPr txBox="1"/>
          <p:nvPr/>
        </p:nvSpPr>
        <p:spPr>
          <a:xfrm>
            <a:off x="4648320" y="1447920"/>
            <a:ext cx="4038480" cy="4495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endParaRPr b="0" lang="en-US" sz="24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EduBlog </a:t>
            </a:r>
            <a:endParaRPr b="0" lang="en-US" sz="20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http://thethirdgradegazette.edublogs.org</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ducational, blogging website open to teachers and school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Open only by invitation.  I have the ability to accept or deny any comment that is placed on the blog.</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A real, world writing opportunity for each child to share the exciting things that they are learning in the classroom each week.</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ach child will have an opportunity to share their writing and receive comments from teachers, family, and friends.</a:t>
            </a:r>
            <a:endParaRPr b="0" lang="en-US" sz="1400" spc="-1" strike="noStrike">
              <a:solidFill>
                <a:srgbClr val="ffffff"/>
              </a:solidFill>
              <a:latin typeface="Lucida Sans Unicode"/>
            </a:endParaRPr>
          </a:p>
        </p:txBody>
      </p:sp>
      <p:sp>
        <p:nvSpPr>
          <p:cNvPr id="118" name="WordArt 9"/>
          <p:cNvSpPr txBox="1"/>
          <p:nvPr/>
        </p:nvSpPr>
        <p:spPr>
          <a:xfrm>
            <a:off x="2286000" y="990720"/>
            <a:ext cx="4419720" cy="304560"/>
          </a:xfrm>
          <a:prstGeom prst="rect">
            <a:avLst/>
          </a:prstGeom>
        </p:spPr>
        <p:txBody>
          <a:bodyPr wrap="none" fromWordArt="1" lIns="90000" rIns="90000" tIns="46800" bIns="46800" anchor="t" anchorCtr="1">
            <a:prstTxWarp prst="textArchUp">
              <a:avLst>
                <a:gd name="adj" fmla="val 108000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Technology</a:t>
            </a:r>
            <a:endParaRPr b="0" lang="en-US" sz="1800" spc="1" strike="noStrike">
              <a:ln w="9360">
                <a:solidFill>
                  <a:srgbClr val="000000"/>
                </a:solidFill>
                <a:miter/>
              </a:ln>
              <a:solidFill>
                <a:srgbClr val="00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Integration</a:t>
            </a:r>
            <a:endParaRPr b="0" lang="en-US" sz="1800" spc="1" strike="noStrike">
              <a:ln w="9360">
                <a:solidFill>
                  <a:srgbClr val="000000"/>
                </a:solidFill>
                <a:miter/>
              </a:ln>
              <a:solidFill>
                <a:srgbClr val="0066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9T01:58:47Z</dcterms:created>
  <dc:creator>Suzanne</dc:creator>
  <dc:description/>
  <dc:language>en-US</dc:language>
  <cp:lastModifiedBy>smiller</cp:lastModifiedBy>
  <dcterms:modified xsi:type="dcterms:W3CDTF">2009-09-01T18:25:02Z</dcterms:modified>
  <cp:revision>33</cp:revision>
  <dc:subject/>
  <dc:title>Third Grade Parent Information Night</dc:title>
</cp:coreProperties>
</file>