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D1B78-4FBD-413C-AC0C-C148E169F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CFB03-126F-48FA-AC1E-B277A539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22CD2-AC8F-4C98-A5D4-34103129F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C7834-F7FA-4392-8474-126C50BAE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09CDB-ACC3-46CC-9719-93EB18A6F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10C8A-1EA9-4DDB-8763-EBA0B989A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6D98A-F451-49F9-8963-70DAE0C80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C691D-7271-4F2B-9DC3-5E25DCE2E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2AFDC-AADC-4A6F-A13B-73C062C50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2396A-22A3-4CED-AC79-340240A18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18655-2451-4F8E-AF4E-388AE658B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B959C-4C93-4C62-A675-F79075500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1F299-377F-473D-AF8E-A1DB675CF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39A81-9951-4151-91AA-96BBD3926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4EE97-785C-4921-B66A-326FF8270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4C462-E13A-4102-82F4-3004733DB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EAEF8-3A27-459C-9FCE-7A5824716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3611C-4B08-4046-9F6F-6025FD858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8B2FA-E11D-4D37-9891-3284E061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8B66-E69C-4A47-9F93-917094512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D5D3-CDD4-47C2-8443-8CE946622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9F8DA-7236-4A83-9C13-A94D853B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52F1-4C3C-419A-A10E-B3D747DDC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2EE3-D192-4676-B380-E3D933A70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4FB7-C2D8-47A2-BF66-069D7BB1FCE3}"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543C-ED9A-4053-93E7-8983F4DF4A1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ocanticohills.org/spiders/spider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education.luther.edu/calendar/september/argiope.jpg"/>
          <p:cNvPicPr/>
          <p:nvPr/>
        </p:nvPicPr>
        <p:blipFill>
          <a:blip r:embed="rId2"/>
          <a:stretch/>
        </p:blipFill>
        <p:spPr>
          <a:xfrm>
            <a:off x="1981080" y="304920"/>
            <a:ext cx="4191120" cy="6278400"/>
          </a:xfrm>
          <a:prstGeom prst="rect">
            <a:avLst/>
          </a:prstGeom>
          <a:ln w="0">
            <a:noFill/>
          </a:ln>
        </p:spPr>
      </p:pic>
      <p:pic>
        <p:nvPicPr>
          <p:cNvPr id="83" name="Title 1" descr=""/>
          <p:cNvPicPr/>
          <p:nvPr/>
        </p:nvPicPr>
        <p:blipFill>
          <a:blip r:embed="rId3"/>
          <a:stretch/>
        </p:blipFill>
        <p:spPr>
          <a:xfrm>
            <a:off x="55440" y="122400"/>
            <a:ext cx="91551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9000"/>
          </a:bodyPr>
          <a:p>
            <a:pPr marL="541800" indent="-406800" algn="ctr">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e garden spider is very harmless to people. There are many kinds of garden spiders. The Garden Spider hunts first. It stays very still in the middle of the web, unless it is frightened. It stays in the middle of the web until a fly flies into it. As soon as this happens the garden spider goes to catch its prey. Some garden spiders close their eyes and when a fly flies into their web they would feel the vibration of the movement and catch the insect. The garden spider eats flies and other insects. It builds an orb we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arachnid</a:t>
            </a:r>
            <a:r>
              <a:rPr b="0" lang="en-US" sz="2800" spc="-1" strike="noStrike">
                <a:solidFill>
                  <a:srgbClr val="ffffff"/>
                </a:solidFill>
                <a:latin typeface="Book Antiqua"/>
              </a:rPr>
              <a:t> - spiders, daddy longlegs, scorpions, mites, and ticks, that have four pairs of segmented legs and a body that is divided into two par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dragline</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spinnerets</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Title 2" descr=""/>
          <p:cNvPicPr/>
          <p:nvPr/>
        </p:nvPicPr>
        <p:blipFill>
          <a:blip r:embed="rId2"/>
          <a:stretch/>
        </p:blipFill>
        <p:spPr>
          <a:xfrm>
            <a:off x="450720" y="103320"/>
            <a:ext cx="8242560" cy="1439640"/>
          </a:xfrm>
          <a:prstGeom prst="rect">
            <a:avLst/>
          </a:prstGeom>
          <a:ln w="0">
            <a:noFill/>
          </a:ln>
        </p:spPr>
      </p:pic>
      <p:pic>
        <p:nvPicPr>
          <p:cNvPr id="89" name="Picture 2" descr="http://entomology.unl.edu/images/spiders/argiope_aur2.jpg"/>
          <p:cNvPicPr/>
          <p:nvPr/>
        </p:nvPicPr>
        <p:blipFill>
          <a:blip r:embed="rId3"/>
          <a:stretch/>
        </p:blipFill>
        <p:spPr>
          <a:xfrm>
            <a:off x="152280" y="2362320"/>
            <a:ext cx="2667240" cy="3941640"/>
          </a:xfrm>
          <a:prstGeom prst="rect">
            <a:avLst/>
          </a:prstGeom>
          <a:ln w="0">
            <a:noFill/>
          </a:ln>
        </p:spPr>
      </p:pic>
      <p:pic>
        <p:nvPicPr>
          <p:cNvPr id="90" name="Picture 3" descr="C:\Users\jackie.garcia\AppData\Local\Microsoft\Windows\Temporary Internet Files\Content.IE5\HG2YPLAT\MPj04424550000[1].jpg"/>
          <p:cNvPicPr/>
          <p:nvPr/>
        </p:nvPicPr>
        <p:blipFill>
          <a:blip r:embed="rId4"/>
          <a:stretch/>
        </p:blipFill>
        <p:spPr>
          <a:xfrm>
            <a:off x="3124080" y="2438280"/>
            <a:ext cx="2590920" cy="3811680"/>
          </a:xfrm>
          <a:prstGeom prst="rect">
            <a:avLst/>
          </a:prstGeom>
          <a:ln w="0">
            <a:noFill/>
          </a:ln>
        </p:spPr>
      </p:pic>
      <p:sp>
        <p:nvSpPr>
          <p:cNvPr id="91" name="TextBox 5"/>
          <p:cNvSpPr/>
          <p:nvPr/>
        </p:nvSpPr>
        <p:spPr>
          <a:xfrm>
            <a:off x="6858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Garden spider”</a:t>
            </a:r>
            <a:endParaRPr b="0" lang="en-US" sz="1800" spc="-1" strike="noStrike">
              <a:solidFill>
                <a:srgbClr val="ffffff"/>
              </a:solidFill>
              <a:latin typeface="Arial"/>
            </a:endParaRPr>
          </a:p>
        </p:txBody>
      </p:sp>
      <p:sp>
        <p:nvSpPr>
          <p:cNvPr id="92" name="TextBox 6"/>
          <p:cNvSpPr/>
          <p:nvPr/>
        </p:nvSpPr>
        <p:spPr>
          <a:xfrm>
            <a:off x="3581280" y="16765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Orb web”</a:t>
            </a:r>
            <a:endParaRPr b="0" lang="en-US" sz="1800" spc="-1" strike="noStrike">
              <a:solidFill>
                <a:srgbClr val="ffffff"/>
              </a:solidFill>
              <a:latin typeface="Arial"/>
            </a:endParaRPr>
          </a:p>
        </p:txBody>
      </p:sp>
      <p:pic>
        <p:nvPicPr>
          <p:cNvPr id="93" name="Picture 5" descr="http://blogs.rep-am.com/nature/wp-content/uploads/2008/08/garden-spider-2a-topside-bent-of-the-river-08-27-2008-300x239.jpg"/>
          <p:cNvPicPr/>
          <p:nvPr/>
        </p:nvPicPr>
        <p:blipFill>
          <a:blip r:embed="rId5"/>
          <a:stretch/>
        </p:blipFill>
        <p:spPr>
          <a:xfrm>
            <a:off x="6172200" y="2895480"/>
            <a:ext cx="247320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Title 1" descr=""/>
          <p:cNvPicPr/>
          <p:nvPr/>
        </p:nvPicPr>
        <p:blipFill>
          <a:blip r:embed="rId2"/>
          <a:stretch/>
        </p:blipFill>
        <p:spPr>
          <a:xfrm>
            <a:off x="450720" y="268200"/>
            <a:ext cx="8242560" cy="1158840"/>
          </a:xfrm>
          <a:prstGeom prst="rect">
            <a:avLst/>
          </a:prstGeom>
          <a:ln w="0">
            <a:noFill/>
          </a:ln>
        </p:spPr>
      </p:pic>
      <p:pic>
        <p:nvPicPr>
          <p:cNvPr id="95" name="Picture 2" descr=""/>
          <p:cNvPicPr/>
          <p:nvPr/>
        </p:nvPicPr>
        <p:blipFill>
          <a:blip r:embed="rId3"/>
          <a:stretch/>
        </p:blipFill>
        <p:spPr>
          <a:xfrm>
            <a:off x="1523880" y="2049480"/>
            <a:ext cx="6096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pocanticohills.org/spiders/spiders.ht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ank you for wat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0:48:31Z</dcterms:created>
  <dc:creator>jackie.garcia</dc:creator>
  <dc:description/>
  <dc:language>en-US</dc:language>
  <cp:lastModifiedBy>smiller</cp:lastModifiedBy>
  <dcterms:modified xsi:type="dcterms:W3CDTF">2009-10-12T20:37:30Z</dcterms:modified>
  <cp:revision>6</cp:revision>
  <dc:subject/>
  <dc:title>Spidery Presentattion</dc:title>
</cp:coreProperties>
</file>