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wmf" ContentType="image/x-wmf"/>
  <Override PartName="/ppt/media/image6.wmf" ContentType="image/x-wmf"/>
  <Override PartName="/ppt/media/image7.gif" ContentType="image/gi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28D-232A-4B3B-BBB0-97BD28C2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54E-1AE8-498B-90B8-90FE8041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010-E954-4BF9-845F-EC4B3298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46B-984D-4FF3-8227-81E11C7A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E846-C455-4D1B-82C2-62EC9AA7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F9AE-40FE-4F04-95F7-61CFA0CE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B629-89CB-42CF-80A1-8B9298F6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EAB6-3EC4-42AD-8EF3-F193F16C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237A-35E2-4B60-B857-259F80FC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E474-4BCE-4710-A156-8E83323A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AB53-4291-446B-AE51-84EAF8DF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378-DB31-4569-8A3C-7BE509B8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22CB-DEE9-4E96-AE8A-DE640C98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354C-0097-462D-813F-46AED2F4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4C29-C3DD-4B9D-B30F-B270211E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4766-9080-4E69-B97E-D92CB661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576A-4424-466F-9FB0-C3556BD3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896-C16D-492B-8B26-A426E708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9F14-33FC-4A5A-AE30-7CBBA42C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626-1379-4D90-B3E7-2C0F578C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394-E3F5-44DA-8C5A-16A78DA1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0CA-6418-4C13-A89F-71DF73BF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CBB-31C2-4B67-873A-DD4AF6A0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6BB-7412-43ED-A84B-DDB7277B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E5F7-8FDC-431A-B9D6-4E089BA81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2775-7FEA-45EE-8177-20901AD50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ocanticohills.org/spiders/spiders.htmhttp:/www.pocanticohills.org/spiders/spiders.htmhttp:/www.pocanticohills.org/spiders/spiders.htmhttp:/www.pocanticohills.org/spiders/spiders.htmhttp:/www.pocanticohills.org/spiders/spiders.htmhttp:/www." TargetMode="External"/><Relationship Id="rId2" Type="http://schemas.openxmlformats.org/officeDocument/2006/relationships/hyperlink" Target="http://www.pocanticohills.org/spiders/spiders.htmhttp:/www.pocanticohills.org/spiders/spiders.htmhttp:/www.pocanticohills.org/spiders/spiders.htmhttp:/www.pocanticohills.org/spiders/spiders.htmhttp:/www.pocanticohills.org/spiders/spiders.htmhttp:/www.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piders Aler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Casey Ern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reepy Crit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57840" cy="360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09680" y="54100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ey’s drawing of a Garden Sp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54100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57676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28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is about  garden sp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l kinds of spider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otte is a sedentary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rden spiders make orb we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n’t hurt peop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213336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y vocabula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pieces of silk put together by a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k-a fine thread-like material spun by a spid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nnerets-an area on a spider that makes sil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gline – long silk threads that trail behind the spi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bweb – old tangled spider web that has collected dust and di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ilbu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981080"/>
          <a:ext cx="30456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34988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4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 Quot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am a sedentary spider,” says Charlot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always give them a little anesthetic so they won’t feel pain.  It’s a little service I throw i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catches flies and sucks their blood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2462040" cy="2065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pider invasion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18080" y="1295280"/>
            <a:ext cx="1325520" cy="167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286000" y="1219320"/>
            <a:ext cx="647640" cy="213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V="1">
            <a:off x="5257800" y="10666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181320" y="2895480"/>
            <a:ext cx="1677960" cy="2210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095880" y="3124080"/>
            <a:ext cx="2438640" cy="2359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858000" y="838080"/>
            <a:ext cx="178128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our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www.pocanticohills.org/spiders/spiders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SONAL AND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3:30:16Z</dcterms:created>
  <dc:creator>April Ernest</dc:creator>
  <dc:description/>
  <dc:language>en-US</dc:language>
  <cp:lastModifiedBy>smiller</cp:lastModifiedBy>
  <dcterms:modified xsi:type="dcterms:W3CDTF">2009-10-12T20:36:57Z</dcterms:modified>
  <cp:revision>19</cp:revision>
  <dc:subject/>
  <dc:title>Spiders Ale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_Steward">
    <vt:lpwstr>Ernest A u363566</vt:lpwstr>
  </property>
  <property fmtid="{D5CDD505-2E9C-101B-9397-08002B2CF9AE}" pid="3" name="Information_Classification">
    <vt:lpwstr>PERSONAL AND CONFIDENTIAL</vt:lpwstr>
  </property>
  <property fmtid="{D5CDD505-2E9C-101B-9397-08002B2CF9AE}" pid="4" name="Initial_Creation_Date">
    <vt:lpwstr>10/4/2009 9:38:09 AM</vt:lpwstr>
  </property>
  <property fmtid="{D5CDD505-2E9C-101B-9397-08002B2CF9AE}" pid="5" name="Last_Reviewed_Date">
    <vt:lpwstr/>
  </property>
  <property fmtid="{D5CDD505-2E9C-101B-9397-08002B2CF9AE}" pid="6" name="Record_Title_ID">
    <vt:lpwstr>72</vt:lpwstr>
  </property>
  <property fmtid="{D5CDD505-2E9C-101B-9397-08002B2CF9AE}" pid="7" name="Retention_Period_Start_Date">
    <vt:lpwstr>10/4/2009</vt:lpwstr>
  </property>
  <property fmtid="{D5CDD505-2E9C-101B-9397-08002B2CF9AE}" pid="8" name="Retention_Review_Frequency">
    <vt:lpwstr/>
  </property>
  <property fmtid="{D5CDD505-2E9C-101B-9397-08002B2CF9AE}" pid="9" name="_AdHocReviewCycleID">
    <vt:r8>2047591602</vt:r8>
  </property>
  <property fmtid="{D5CDD505-2E9C-101B-9397-08002B2CF9AE}" pid="10" name="_AuthorEmail">
    <vt:lpwstr>aernest@dow.com</vt:lpwstr>
  </property>
  <property fmtid="{D5CDD505-2E9C-101B-9397-08002B2CF9AE}" pid="11" name="_AuthorEmailDisplayName">
    <vt:lpwstr>Ernest, April (AD)</vt:lpwstr>
  </property>
  <property fmtid="{D5CDD505-2E9C-101B-9397-08002B2CF9AE}" pid="12" name="_EmailSubject">
    <vt:lpwstr>Reading project -Casey</vt:lpwstr>
  </property>
  <property fmtid="{D5CDD505-2E9C-101B-9397-08002B2CF9AE}" pid="13" name="_NewReviewCycle">
    <vt:lpwstr/>
  </property>
  <property fmtid="{D5CDD505-2E9C-101B-9397-08002B2CF9AE}" pid="14" name="_ReviewingToolsShownOnce">
    <vt:lpwstr/>
  </property>
</Properties>
</file>