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EEA-E7B3-49BB-A865-A8A15E88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6F7-0F26-40DF-9F23-79AA6A96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6E2-23A7-42C0-A1F3-AFC25331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DE0-0276-4266-AE2D-5E7CBC36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3A4B-57E2-45B5-9087-EAB9E2B7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62C5-8450-4B8F-AB39-89D612E7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F9BC-70B1-4DD2-BA5B-0C21E7F3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E13D-5AE2-4FEF-BF63-35626F63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F23A-86FE-4B79-BB06-F038DF61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FB7C-4ABE-4F69-9A92-AC3F01BD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F7DB-7617-4E1D-B7EE-2F3A05E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3F8-34F1-413E-B1A3-2067DF34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32A5-1B4C-4A7A-AD44-E0B07E5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2C09-7DA1-44CD-AEB1-F3422DA7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9BD1-0E40-4B31-8FE6-F13089C8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AD33-08FC-4469-887B-CEE67D9C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8F7A-BCF5-4D03-84ED-0111E4C4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280-B2FC-4D0B-87BF-57A87271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931-9027-44A4-BDAA-FA4A7B69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618-C744-42D7-99BD-EF8AB7D1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584-850A-4E0B-AB85-A34D1960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37C-EB50-4B24-984F-41FB182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407-B1B7-4B6B-A924-94ABEE3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A08-1C40-4BFD-BB4B-8142A87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5741-8C76-4920-858F-9F4E45435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9F92-A4B1-4E22-9C41-C29339CD9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2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piders Aler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Casey Ern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eepy Crit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5784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5410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y’s drawing of a Garden Sp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54100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57676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8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bout  garden sp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 kinds of spider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otte is a sedentary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rden spiders make orb we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n’t hurt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213336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y vocabul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pieces of silk put together by a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k-a fine thread-like material spun by a spi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nnerets-an area on a spider that makes s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gline – long silk threads that trail behind the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bweb – old tangled spider web that has collected dust and di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lbu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9810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34988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Quo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m a sedentary spider,” says Charlot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lways give them a little anesthetic so they won’t feel pain.  It’s a little service I throw i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catches flies and sucks their bloo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462040" cy="2065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invas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18080" y="1295280"/>
            <a:ext cx="1325520" cy="167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647640" cy="213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5257800" y="10666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181320" y="2895480"/>
            <a:ext cx="1677960" cy="2210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95880" y="3124080"/>
            <a:ext cx="2438640" cy="235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858000" y="838080"/>
            <a:ext cx="178128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ur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www.pocanticohills.org/spiders/spiders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3:30:16Z</dcterms:created>
  <dc:creator>April Ernest</dc:creator>
  <dc:description/>
  <dc:language>en-US</dc:language>
  <cp:lastModifiedBy>smiller</cp:lastModifiedBy>
  <dcterms:modified xsi:type="dcterms:W3CDTF">2009-10-12T20:36:57Z</dcterms:modified>
  <cp:revision>19</cp:revision>
  <dc:subject/>
  <dc:title>Spiders Ale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_Steward">
    <vt:lpwstr>Ernest A u363566</vt:lpwstr>
  </property>
  <property fmtid="{D5CDD505-2E9C-101B-9397-08002B2CF9AE}" pid="3" name="Information_Classification">
    <vt:lpwstr>PERSONAL AND CONFIDENTIAL</vt:lpwstr>
  </property>
  <property fmtid="{D5CDD505-2E9C-101B-9397-08002B2CF9AE}" pid="4" name="Initial_Creation_Date">
    <vt:lpwstr>10/4/2009 9:38:09 AM</vt:lpwstr>
  </property>
  <property fmtid="{D5CDD505-2E9C-101B-9397-08002B2CF9AE}" pid="5" name="Last_Reviewed_Date">
    <vt:lpwstr/>
  </property>
  <property fmtid="{D5CDD505-2E9C-101B-9397-08002B2CF9AE}" pid="6" name="Record_Title_ID">
    <vt:lpwstr>72</vt:lpwstr>
  </property>
  <property fmtid="{D5CDD505-2E9C-101B-9397-08002B2CF9AE}" pid="7" name="Retention_Period_Start_Date">
    <vt:lpwstr>10/4/2009</vt:lpwstr>
  </property>
  <property fmtid="{D5CDD505-2E9C-101B-9397-08002B2CF9AE}" pid="8" name="Retention_Review_Frequency">
    <vt:lpwstr/>
  </property>
  <property fmtid="{D5CDD505-2E9C-101B-9397-08002B2CF9AE}" pid="9" name="_AdHocReviewCycleID">
    <vt:r8>2047591602</vt:r8>
  </property>
  <property fmtid="{D5CDD505-2E9C-101B-9397-08002B2CF9AE}" pid="10" name="_AuthorEmail">
    <vt:lpwstr>aernest@dow.com</vt:lpwstr>
  </property>
  <property fmtid="{D5CDD505-2E9C-101B-9397-08002B2CF9AE}" pid="11" name="_AuthorEmailDisplayName">
    <vt:lpwstr>Ernest, April (AD)</vt:lpwstr>
  </property>
  <property fmtid="{D5CDD505-2E9C-101B-9397-08002B2CF9AE}" pid="12" name="_EmailSubject">
    <vt:lpwstr>Reading project -Casey</vt:lpwstr>
  </property>
  <property fmtid="{D5CDD505-2E9C-101B-9397-08002B2CF9AE}" pid="13" name="_NewReviewCycle">
    <vt:lpwstr/>
  </property>
  <property fmtid="{D5CDD505-2E9C-101B-9397-08002B2CF9AE}" pid="14" name="_ReviewingToolsShownOnce">
    <vt:lpwstr/>
  </property>
</Properties>
</file>