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440-D5CF-44FF-8454-748405CE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FB3-62F4-4E25-8A96-85822A8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051-9579-434D-8EF7-81A6AF5A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F59-696D-49D6-BE92-4E69FEF3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95EF-7B74-4275-8863-C9704B98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74AD-6F86-4517-82C2-27467BC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448-96AD-4608-9A0D-C375026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9A4B-5162-4D8B-8045-C46FE319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6BCC-DE77-44F1-9E2E-0AE44BED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D9B6-1059-409D-A033-91A1BE21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DC3F-9E07-4C3E-B9E5-4642867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78D-EF0C-427E-8E52-5D3EE77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757F-5175-4997-9A37-355A649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2841-2443-460F-A620-98B6F79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9D3-6EF1-4FFB-B2CD-F5018109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BD54-41AF-4259-92B5-6070F890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3EC6-1E3E-41C9-B6F2-6E7F50B6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8C2-654A-4D3A-B342-9BC21F89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64E-2543-4C32-AA5E-F993945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C3D-EC33-44FA-AB1A-5BA6BFD0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A8B-EE17-4DA4-807F-39F4D22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049-51D9-48E1-B66D-BD4E2260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F74-27D3-4380-8052-27AC55A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C1F-091B-4A75-84DA-FB1E5BA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9BD-F7B1-4082-BA39-56023720E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6400-40BB-4243-AE77-3F20F4802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2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iders Ale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asey Ern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eepy Cri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5784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y’s drawing of a Garden Sp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5410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767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bout  garden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 kinds of spider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otte is a sedentary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den spiders make orb we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hurt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13336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y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pieces of silk put together by a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k-a fine thread-like material spun by a spi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nnerets-an area on a spider that makes s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gline – long silk threads that trail behind the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web – old tangled spider web that has collected dust and di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bu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34988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Quo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a sedentary spider,” says Charlot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lways give them a little anesthetic so they won’t feel pain.  It’s a little service I throw 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tches flies and sucks their bloo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62040" cy="2065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invas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18080" y="1295280"/>
            <a:ext cx="1325520" cy="167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64764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5257800" y="1066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81320" y="2895480"/>
            <a:ext cx="1677960" cy="2210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95880" y="3124080"/>
            <a:ext cx="2438640" cy="235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838080"/>
            <a:ext cx="17812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pocanticohills.org/spiders/spider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30:16Z</dcterms:created>
  <dc:creator>April Ernest</dc:creator>
  <dc:description/>
  <dc:language>en-US</dc:language>
  <cp:lastModifiedBy>smiller</cp:lastModifiedBy>
  <dcterms:modified xsi:type="dcterms:W3CDTF">2009-10-12T20:36:57Z</dcterms:modified>
  <cp:revision>19</cp:revision>
  <dc:subject/>
  <dc:title>Spiders Al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_Steward">
    <vt:lpwstr>Ernest A u363566</vt:lpwstr>
  </property>
  <property fmtid="{D5CDD505-2E9C-101B-9397-08002B2CF9AE}" pid="3" name="Information_Classification">
    <vt:lpwstr>PERSONAL AND CONFIDENTIAL</vt:lpwstr>
  </property>
  <property fmtid="{D5CDD505-2E9C-101B-9397-08002B2CF9AE}" pid="4" name="Initial_Creation_Date">
    <vt:lpwstr>10/4/2009 9:38:09 AM</vt:lpwstr>
  </property>
  <property fmtid="{D5CDD505-2E9C-101B-9397-08002B2CF9AE}" pid="5" name="Last_Reviewed_Date">
    <vt:lpwstr/>
  </property>
  <property fmtid="{D5CDD505-2E9C-101B-9397-08002B2CF9AE}" pid="6" name="Record_Title_ID">
    <vt:lpwstr>72</vt:lpwstr>
  </property>
  <property fmtid="{D5CDD505-2E9C-101B-9397-08002B2CF9AE}" pid="7" name="Retention_Period_Start_Date">
    <vt:lpwstr>10/4/2009</vt:lpwstr>
  </property>
  <property fmtid="{D5CDD505-2E9C-101B-9397-08002B2CF9AE}" pid="8" name="Retention_Review_Frequency">
    <vt:lpwstr/>
  </property>
  <property fmtid="{D5CDD505-2E9C-101B-9397-08002B2CF9AE}" pid="9" name="_AdHocReviewCycleID">
    <vt:r8>2047591602</vt:r8>
  </property>
  <property fmtid="{D5CDD505-2E9C-101B-9397-08002B2CF9AE}" pid="10" name="_AuthorEmail">
    <vt:lpwstr>aernest@dow.com</vt:lpwstr>
  </property>
  <property fmtid="{D5CDD505-2E9C-101B-9397-08002B2CF9AE}" pid="11" name="_AuthorEmailDisplayName">
    <vt:lpwstr>Ernest, April (AD)</vt:lpwstr>
  </property>
  <property fmtid="{D5CDD505-2E9C-101B-9397-08002B2CF9AE}" pid="12" name="_EmailSubject">
    <vt:lpwstr>Reading project -Casey</vt:lpwstr>
  </property>
  <property fmtid="{D5CDD505-2E9C-101B-9397-08002B2CF9AE}" pid="13" name="_NewReviewCycle">
    <vt:lpwstr/>
  </property>
  <property fmtid="{D5CDD505-2E9C-101B-9397-08002B2CF9AE}" pid="14" name="_ReviewingToolsShownOnce">
    <vt:lpwstr/>
  </property>
</Properties>
</file>