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CE9-D4F3-4469-82F0-1F5B7230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181-1BC8-450A-BB33-561C3B94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07F-D76B-48A4-B801-BF708465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3AE-F8B7-4449-B33A-E7E6EC78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AE90-B48C-462B-8D0C-AFDFCB83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B62B-657A-4206-A573-999022AB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3323-6A78-49B6-BBAF-746F08A5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383A-30E7-4923-93FA-A6622A7F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0083-5AE3-4FF5-841E-8C6D119A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567A-6039-4927-A0AA-E8B36BF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101E-D258-4587-9FEA-1B2C941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444-3479-4B10-83D1-9A4998A4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006A-CAA5-4DC4-9C40-6157DF3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735C-44DB-4AFA-B788-11BF13D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C906-3EBA-435C-B1A5-C6DA556F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1A47-7298-432D-9DAB-3C1F41F9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2F23-238C-4456-B442-A5277BD0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C84-BF6B-4747-8E2E-13B377BD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C7A-86B5-49E7-B202-40435661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AEA-2288-48DB-8F73-9ADE5BBC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8DB-617A-435F-B6A9-F410B22E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408-A7FA-47E0-B31A-0A07F59A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2C2-8E86-4C68-9374-74EE00D1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EE7-7C2C-42D5-9F0D-ECFB8AB8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9E3E-0BE1-46E9-A8C6-51C350088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4EE-6E3E-44E2-A55F-15F102E4C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2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piders Aler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Casey Ern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eepy Crit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5784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5410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y’s drawing of a Garden Sp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54100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57676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8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bout  garden sp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 kinds of spider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otte is a sedentary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rden spiders make orb we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n’t hurt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213336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y vocabul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pieces of silk put together by a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k-a fine thread-like material spun by a spi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nnerets-an area on a spider that makes s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gline – long silk threads that trail behind the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bweb – old tangled spider web that has collected dust and di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lbu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9810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34988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Quo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m a sedentary spider,” says Charlot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lways give them a little anesthetic so they won’t feel pain.  It’s a little service I throw i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catches flies and sucks their bloo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462040" cy="2065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invas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18080" y="1295280"/>
            <a:ext cx="1325520" cy="167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647640" cy="213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5257800" y="10666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181320" y="2895480"/>
            <a:ext cx="1677960" cy="2210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95880" y="3124080"/>
            <a:ext cx="2438640" cy="235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858000" y="838080"/>
            <a:ext cx="178128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ur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www.pocanticohills.org/spiders/spiders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3:30:16Z</dcterms:created>
  <dc:creator>April Ernest</dc:creator>
  <dc:description/>
  <dc:language>en-US</dc:language>
  <cp:lastModifiedBy>smiller</cp:lastModifiedBy>
  <dcterms:modified xsi:type="dcterms:W3CDTF">2009-10-12T20:36:57Z</dcterms:modified>
  <cp:revision>19</cp:revision>
  <dc:subject/>
  <dc:title>Spiders Ale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_Steward">
    <vt:lpwstr>Ernest A u363566</vt:lpwstr>
  </property>
  <property fmtid="{D5CDD505-2E9C-101B-9397-08002B2CF9AE}" pid="3" name="Information_Classification">
    <vt:lpwstr>PERSONAL AND CONFIDENTIAL</vt:lpwstr>
  </property>
  <property fmtid="{D5CDD505-2E9C-101B-9397-08002B2CF9AE}" pid="4" name="Initial_Creation_Date">
    <vt:lpwstr>10/4/2009 9:38:09 AM</vt:lpwstr>
  </property>
  <property fmtid="{D5CDD505-2E9C-101B-9397-08002B2CF9AE}" pid="5" name="Last_Reviewed_Date">
    <vt:lpwstr/>
  </property>
  <property fmtid="{D5CDD505-2E9C-101B-9397-08002B2CF9AE}" pid="6" name="Record_Title_ID">
    <vt:lpwstr>72</vt:lpwstr>
  </property>
  <property fmtid="{D5CDD505-2E9C-101B-9397-08002B2CF9AE}" pid="7" name="Retention_Period_Start_Date">
    <vt:lpwstr>10/4/2009</vt:lpwstr>
  </property>
  <property fmtid="{D5CDD505-2E9C-101B-9397-08002B2CF9AE}" pid="8" name="Retention_Review_Frequency">
    <vt:lpwstr/>
  </property>
  <property fmtid="{D5CDD505-2E9C-101B-9397-08002B2CF9AE}" pid="9" name="_AdHocReviewCycleID">
    <vt:r8>2047591602</vt:r8>
  </property>
  <property fmtid="{D5CDD505-2E9C-101B-9397-08002B2CF9AE}" pid="10" name="_AuthorEmail">
    <vt:lpwstr>aernest@dow.com</vt:lpwstr>
  </property>
  <property fmtid="{D5CDD505-2E9C-101B-9397-08002B2CF9AE}" pid="11" name="_AuthorEmailDisplayName">
    <vt:lpwstr>Ernest, April (AD)</vt:lpwstr>
  </property>
  <property fmtid="{D5CDD505-2E9C-101B-9397-08002B2CF9AE}" pid="12" name="_EmailSubject">
    <vt:lpwstr>Reading project -Casey</vt:lpwstr>
  </property>
  <property fmtid="{D5CDD505-2E9C-101B-9397-08002B2CF9AE}" pid="13" name="_NewReviewCycle">
    <vt:lpwstr/>
  </property>
  <property fmtid="{D5CDD505-2E9C-101B-9397-08002B2CF9AE}" pid="14" name="_ReviewingToolsShownOnce">
    <vt:lpwstr/>
  </property>
</Properties>
</file>