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165-E420-4B3F-903E-AB3C71C6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31A-DF31-4056-86DF-59D2E7C2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656-42E0-4F99-9FF4-E40A00FA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FD2-D354-47D3-A1B1-E937F295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1C82-1566-4865-AC1A-7A7D2F6A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8CB4-DDCA-4F16-AD2F-F3829563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B680-EC16-4CFE-9827-ED0D5C08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F805-39E4-4927-B0AA-67574CBF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1A92-E8FC-457A-84B8-67CB8EBE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F930-020D-4F9C-9332-5618D8F0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DE98-1441-47B5-BC45-EC58D40A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758-26B8-4997-AE3A-CE4FDE0B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ADE7-04CD-4AD2-A35D-514B303E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FA2D-9C43-42E1-B46C-FD11601A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A906-FF9B-4BD3-9F18-D90E55AC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7849-38D6-4EBA-818B-0E198EBC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5890-A32C-4170-A510-48309296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C1A-1045-45BB-818C-C41A902A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E70-E14A-46CA-BE4C-C4FDC7D1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B2C-1D5D-4D27-BFBE-CB711666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1B4-288C-4C16-822F-7FBF732D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497-2F89-4E83-8103-9BD4D7EE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63B-9453-4E06-9203-13CD15F4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964-4C1E-473F-B34B-38B9007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CE7F-230B-4F81-980D-A82A67B9A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5CDC-AC4D-40DF-B70E-1AC5C66B9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2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piders Aler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Casey Ern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eepy Crit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57840" cy="360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9680" y="5410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y’s drawing of a Garden Sp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54100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57676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28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bout  garden sp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 kinds of spider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otte is a sedentary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rden spiders make orb we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n’t hurt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213336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y vocabul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pieces of silk put together by a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k-a fine thread-like material spun by a spid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nnerets-an area on a spider that makes s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gline – long silk threads that trail behind the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bweb – old tangled spider web that has collected dust and di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ilbu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9810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34988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Quo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m a sedentary spider,” says Charlot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lways give them a little anesthetic so they won’t feel pain.  It’s a little service I throw i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catches flies and sucks their bloo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462040" cy="2065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invas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18080" y="1295280"/>
            <a:ext cx="1325520" cy="167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647640" cy="213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5257800" y="10666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181320" y="2895480"/>
            <a:ext cx="1677960" cy="2210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95880" y="3124080"/>
            <a:ext cx="2438640" cy="235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858000" y="838080"/>
            <a:ext cx="178128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ur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www.pocanticohills.org/spiders/spiders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3:30:16Z</dcterms:created>
  <dc:creator>April Ernest</dc:creator>
  <dc:description/>
  <dc:language>en-US</dc:language>
  <cp:lastModifiedBy>smiller</cp:lastModifiedBy>
  <dcterms:modified xsi:type="dcterms:W3CDTF">2009-10-12T20:36:57Z</dcterms:modified>
  <cp:revision>19</cp:revision>
  <dc:subject/>
  <dc:title>Spiders Ale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_Steward">
    <vt:lpwstr>Ernest A u363566</vt:lpwstr>
  </property>
  <property fmtid="{D5CDD505-2E9C-101B-9397-08002B2CF9AE}" pid="3" name="Information_Classification">
    <vt:lpwstr>PERSONAL AND CONFIDENTIAL</vt:lpwstr>
  </property>
  <property fmtid="{D5CDD505-2E9C-101B-9397-08002B2CF9AE}" pid="4" name="Initial_Creation_Date">
    <vt:lpwstr>10/4/2009 9:38:09 AM</vt:lpwstr>
  </property>
  <property fmtid="{D5CDD505-2E9C-101B-9397-08002B2CF9AE}" pid="5" name="Last_Reviewed_Date">
    <vt:lpwstr/>
  </property>
  <property fmtid="{D5CDD505-2E9C-101B-9397-08002B2CF9AE}" pid="6" name="Record_Title_ID">
    <vt:lpwstr>72</vt:lpwstr>
  </property>
  <property fmtid="{D5CDD505-2E9C-101B-9397-08002B2CF9AE}" pid="7" name="Retention_Period_Start_Date">
    <vt:lpwstr>10/4/2009</vt:lpwstr>
  </property>
  <property fmtid="{D5CDD505-2E9C-101B-9397-08002B2CF9AE}" pid="8" name="Retention_Review_Frequency">
    <vt:lpwstr/>
  </property>
  <property fmtid="{D5CDD505-2E9C-101B-9397-08002B2CF9AE}" pid="9" name="_AdHocReviewCycleID">
    <vt:r8>2047591602</vt:r8>
  </property>
  <property fmtid="{D5CDD505-2E9C-101B-9397-08002B2CF9AE}" pid="10" name="_AuthorEmail">
    <vt:lpwstr>aernest@dow.com</vt:lpwstr>
  </property>
  <property fmtid="{D5CDD505-2E9C-101B-9397-08002B2CF9AE}" pid="11" name="_AuthorEmailDisplayName">
    <vt:lpwstr>Ernest, April (AD)</vt:lpwstr>
  </property>
  <property fmtid="{D5CDD505-2E9C-101B-9397-08002B2CF9AE}" pid="12" name="_EmailSubject">
    <vt:lpwstr>Reading project -Casey</vt:lpwstr>
  </property>
  <property fmtid="{D5CDD505-2E9C-101B-9397-08002B2CF9AE}" pid="13" name="_NewReviewCycle">
    <vt:lpwstr/>
  </property>
  <property fmtid="{D5CDD505-2E9C-101B-9397-08002B2CF9AE}" pid="14" name="_ReviewingToolsShownOnce">
    <vt:lpwstr/>
  </property>
</Properties>
</file>